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66E1-DD50-41F8-AEED-2C285A3E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3D50-CD25-4359-8A4A-36929FD4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5612-C7DB-4882-B771-C9FA16D5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79200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2953080"/>
            <a:ext cx="291960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FBFC-5D83-460D-A42B-D2721BB2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C52E-0423-4DD0-9FE5-6D26AE12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CD12-FE88-4E0A-8A4C-E9E9B1BF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A8CA-FE38-400F-8702-701E8F5B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289D-DD80-41E1-A063-0F8FBE7D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622584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812C-D16D-4AA5-9F6F-863D75AA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D125-A024-4A92-9474-C4CFD436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295308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5C7B-568B-4AEF-93FD-60BE1F0F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792000"/>
            <a:ext cx="4424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2953080"/>
            <a:ext cx="906768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16F7-84E1-4570-BD62-E1D72E7E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792000"/>
            <a:ext cx="90676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37516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37516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37516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8942CE9-8884-45DA-9197-0ED6EB5778F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5126040"/>
            <a:ext cx="907092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2920" y="791640"/>
            <a:ext cx="907092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ion of code that performs a ta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Value retu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Return no values (called vo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lue Returning Func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7092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s only 1 value at the end of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you've always se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main(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56000" indent="0">
              <a:lnSpc>
                <a:spcPct val="93000"/>
              </a:lnSpc>
              <a:spcAft>
                <a:spcPts val="575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56000" indent="0">
              <a:lnSpc>
                <a:spcPct val="93000"/>
              </a:lnSpc>
              <a:spcAft>
                <a:spcPts val="575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are usually displayed, stored, or used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ising a Number to a Pow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907092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#include &lt;cmath&gt; at the top of your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(x, y) is the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the number to be raised to a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the ex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be = pow (4.0, 3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08200" indent="-56736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 = 3.14159 * pow (radius, 2.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6543360"/>
            <a:ext cx="907092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rating “Random” Numb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9070920" cy="5405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s, lotteries, practicing math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eudo-random number gen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that because a defined algorithm generates the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is not a random number from an infinite number of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rand(static_cast&lt;int&gt;(time(0)));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5480" indent="-57312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#include &lt;ctime&gt; to us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use rand() to receive a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cifying a Range of Random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7092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_limt + rand() % (upper_limit – lower_limit +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e % mean a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me to Practice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7092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program that uses the random number generator (RNG) to display random additio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02920" y="791640"/>
            <a:ext cx="90694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iostream, c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4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 the random gen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for 5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wo random numbers within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tatement – display correct or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6:07:17Z</dcterms:created>
  <dc:creator>Mike Farver</dc:creator>
  <dc:description>Presentation Layout Template</dc:description>
  <dc:language>en-US</dc:language>
  <cp:lastModifiedBy/>
  <cp:revision>1</cp:revision>
  <dc:subject/>
  <dc:title>Blue with Bottom Title </dc:title>
</cp:coreProperties>
</file>