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1221-95A9-462B-9E69-E2C054658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C4E77-C4DE-44D8-BC34-52F705A33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A3310-AC43-4395-BC57-B94B88E99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5598-9346-4341-B35C-17F43F7DE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3859D-B3EC-45D0-8959-5C6E9A7D0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045BB-20D1-4100-B1F6-B81F4A5E4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3F169-302E-409A-8EED-738939469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590A-5C35-49CF-A917-A3FFE58B03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B19-A39A-41BB-B5D7-CB1EE3CD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62F-4DD8-4213-9DD9-482D241B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1B5-B622-4445-8253-3FDF9962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124-FA93-4B4E-A949-657D544E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20A-32C2-479E-93FF-6674B543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677A-07C0-4C5D-AF66-AEDF64D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DC4-E661-4565-B0A6-5897AE2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F03-4718-425A-B827-45CB9201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DF5-2891-4950-A433-D3DFB674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0B5-211D-43CA-AFC4-83E191E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CA6-CB8B-4A2A-A7FA-FD20D3A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932-8740-4049-877E-5AC8ED2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DA4E54-60D0-482E-952B-7E97E5494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Value Return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reating a Fun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function has been created in ad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can be program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64764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eans it is located within the same file as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can be stored in a different file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rts of a Fun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header – first line of a function, no semico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retur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f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 calcRectangleArea (int len, int w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imes New Roman"/>
              </a:rPr>
              <a:t>return len * wi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} //end of calcRectangle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rame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Parameters – variables named in the hea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used only in th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Parameters (or arguments) – value passed to the function when you call it, they give a value (or reference) to the formal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ssing Argum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by value – copies the passed variable's value into the variable in the formal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by reference – copies the variable's memory location into the variable in the formal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ered more in chapter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values passed must match the the number in the function h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unction Bod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the code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turn statement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include more than one return statement, but only one must be available at any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(x &gt;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x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actice!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new function that receives as arguments two integers and returns their sum to the main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main function needs to call it and display the output all on one 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6:52:10Z</dcterms:created>
  <dc:creator>Mike Farver</dc:creator>
  <dc:description>Presentation Layout Template</dc:description>
  <dc:language>en-US</dc:language>
  <cp:lastModifiedBy>End User</cp:lastModifiedBy>
  <dcterms:modified xsi:type="dcterms:W3CDTF">2014-03-28T12:33:53Z</dcterms:modified>
  <cp:revision>4</cp:revision>
  <dc:subject/>
  <dc:title>Brown</dc:title>
</cp:coreProperties>
</file>