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7AA35-8A9E-434D-A345-C913A68997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3C412-D434-4F26-B2EF-A030F945A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18BB6-F657-4C3F-8E14-D6A3FBAB2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18FE5-CADD-4D5F-BF28-0CF2C29D3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52DFF-CB7E-49D9-B75F-E48BD433F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13EAF-7EE1-4E4D-90B9-4D379C436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0A85C-5A56-4DDC-98EC-E258EBCDD5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F936A-9010-487A-960E-E3D923611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624-55CD-4BA0-AA07-E07B56C5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0E8-79BE-4187-83E0-44D6D7EA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8F4-E90A-495D-8FE7-5ACB5BA2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1A0-B7D2-40C2-8E1D-4DCB1720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C40-8234-4442-88CA-E1109881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A42-D194-4694-9846-1FE3CCB6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90B-4BDE-4A83-A6BF-BE8D1927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D01-FEA7-4DAC-BDDB-0113BAA5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444-9774-48D7-B09A-85976B0D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EFB-1A81-435D-AD21-F1C89995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7DBC-57F4-4F71-9D66-AB7C5046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BFC-FAD9-4FFA-87DF-73243FAB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CFC5AD-3295-4B3B-ACAD-1810A98385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Value Returnin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reating a Func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very function has been created in adv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s can be program-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647640" indent="-430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Means it is located within the same file as th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s can be stored in a different file as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arts of a Func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 header – first line of a function, no semico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s return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of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int calcRectangleArea (int len, int w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Times New Roman"/>
              </a:rPr>
              <a:t>return len * wi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} //end of calcRectangle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arameter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Parameters – variables named in the head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used only in th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Parameters (or arguments) – value passed to the function when you call it, they give a value (or reference) to the formal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assing Argument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by value – copies the passed variable's value into the variable in the formal param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by reference – copies the variable's memory location into the variable in the formal param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vered more in chapter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values passed must match the the number in the function he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unction Bod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the code to be exec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turn statement to be exec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include more than one return statement, but only one must be available at any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(x &gt; 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x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ractice!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new function that receives as arguments two integers and returns their sum to the main fun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main function needs to call it and display the output all on one l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6:52:10Z</dcterms:created>
  <dc:creator>Mike Farver</dc:creator>
  <dc:description>Presentation Layout Template</dc:description>
  <dc:language>en-US</dc:language>
  <cp:lastModifiedBy>End User</cp:lastModifiedBy>
  <dcterms:modified xsi:type="dcterms:W3CDTF">2014-03-28T12:33:53Z</dcterms:modified>
  <cp:revision>4</cp:revision>
  <dc:subject/>
  <dc:title>Brown</dc:title>
</cp:coreProperties>
</file>