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FEC-7402-40C4-9679-A44DF846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A6B-4706-40DF-A706-13DA94A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7F4-EB92-45F2-896F-866D2740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BA3-B393-4C50-A05B-5BC289EF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47E-F05C-49D7-AEE9-0B6071E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A28-9655-4448-9ABF-DCA6893D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D48-C710-4B55-9236-CDD1D24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F28-9377-4BD2-8DA6-F797A13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CEF-1290-4F24-9804-A346C307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FAFD-404D-4B26-A750-C41C7851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0D8-CA87-4BDE-B249-F941DE7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200-9F6A-4624-968B-B8AF866A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06F44D-97FF-43E7-9EEF-2E974B804C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126040"/>
            <a:ext cx="907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ion of code that performs a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Value ret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turn no values (called vo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e Returning 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only 1 value at the end of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you've always s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ain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usually displayed, stored, or us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ising a Number to a Pow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#include &lt;cmath&gt; at the top of y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(x, y) is the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the number to be raised to a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the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e = pow (4.0, 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= 3.14159 * pow (radius, 2.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543360"/>
            <a:ext cx="90709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ing “Random” Numb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, lotteries, practicing 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at because a defined algorithm generates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not a random number from an infinite number of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rand(static_cast&lt;int&gt;(time(0)));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#include &lt;ctime&gt; to u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rand() to receive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ying a Range of Rando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_limt + rand() % (upper_limit – lower_limit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% mean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 to Practic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ogram that uses the random number generator (RNG) to display random addi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791640"/>
            <a:ext cx="90694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ostream, c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4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the random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5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random numbers withi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 – display corre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6:07:17Z</dcterms:created>
  <dc:creator>Mike Farver</dc:creator>
  <dc:description>Presentation Layout Template</dc:description>
  <dc:language>en-US</dc:language>
  <cp:lastModifiedBy/>
  <cp:revision>1</cp:revision>
  <dc:subject/>
  <dc:title>Blue with Bottom Title </dc:title>
</cp:coreProperties>
</file>