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169-F8C8-49DF-B67E-317BE498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250-1FAA-4795-AEA6-93167067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165-BBC5-4796-BFAB-45C15B5E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B13-399E-47A7-97D5-3EEC19E5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1DC-8F8C-4638-977D-EC89194B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FDA4-3D59-4DAD-BB5F-C631A90B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9A1-C3AF-4EF7-BD05-A90A9F07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916-1CDA-449F-9BC9-89FFFFF6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4D1-59D3-425E-84D8-FD9C09C3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6E5-79FA-475B-A498-31A1C67F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066-8FA1-4831-93C3-F9E8F79D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7D9-E495-40FE-BB75-F9BE1271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37516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37516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37516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E9E7DF-1D64-45C7-A7A1-85657C7AE8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5126040"/>
            <a:ext cx="907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ion of code that performs a t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Value retu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eturn no values (called vo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ue Returning Fun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only 1 value at the end of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you've always s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main(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are usually displayed, stored, or used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ising a Number to a Pow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#include &lt;cmath&gt; at the top of you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(x, y) is the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the number to be raised to a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the ex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e = pow (4.0, 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= 3.14159 * pow (radius, 2.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6543360"/>
            <a:ext cx="907092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ting “Random” Numb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540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, lotteries, practicing mat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-random number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that because a defined algorithm generates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is not a random number from an infinite number of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rand(static_cast&lt;int&gt;(time(0)));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#include &lt;ctime&gt; to us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rand() to receive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cifying a Range of Rando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_limt + rand() % (upper_limit – lower_limit 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% mean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me to Practice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ogram that uses the random number generator (RNG) to display random addi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2920" y="791640"/>
            <a:ext cx="90694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iostream, c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4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 the random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for 5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wo random numbers within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atement – display correct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6:07:17Z</dcterms:created>
  <dc:creator>Mike Farver</dc:creator>
  <dc:description>Presentation Layout Template</dc:description>
  <dc:language>en-US</dc:language>
  <cp:lastModifiedBy/>
  <cp:revision>1</cp:revision>
  <dc:subject/>
  <dc:title>Blue with Bottom Title </dc:title>
</cp:coreProperties>
</file>