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4D72-402A-416D-8D34-DC82CACF1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D8CB1-BFB3-4E49-B43C-09E03DD42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42A3-60E1-4C9C-8523-DBC07174A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2BD7-043D-48FD-91B5-B1C5CEE7E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A773-C04F-4793-948B-361F34E0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03156-171C-4073-8ED7-90745F7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B7C29-1183-4EEF-BA3D-64CC8F6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9F15B-6A06-4A39-8E0A-D3CE1EE8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97A57-C9D8-4B1F-81F5-B15A462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22F1-6DA1-4876-AAA7-03322C83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0A2C8-BCC9-40C0-A2C5-4EAC2AF9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44ED-1D1F-4C72-B72D-565BCE008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583AA-4BF8-4C72-A393-BB8D57B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3EE7A-8309-47C4-A6F8-33331BA8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9A68D-8DCE-4F13-B85E-0949887E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3925-A47C-46C8-9A15-6CD86AF0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EEC41-7F9F-415C-8174-EE002F67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4CD2-0FF7-46BC-BFE4-0299EFEEC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6231-8E1E-410E-A551-3765F6875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C51B-BBE2-4FC9-9983-76B2FAE36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E895-6678-4DAB-A1AB-81E9AEB7B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3AC4-1AAE-44CF-BD6A-80EE31966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2E50-3B18-4248-802C-3119043E0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1A3C-E6BE-4A65-8CA6-D0E8308D2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D4E-0216-4C59-9C38-DCAB26DB3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AD8-DB34-43F2-B543-9E9CADC2D88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79640"/>
            <a:ext cx="1143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 - 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B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eat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Page and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CSS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4920" y="1447560"/>
            <a:ext cx="75438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Expression Web includes prestructured, browser-tested CSS page layout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746748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contents of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tit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element are not displayed on the page itself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ed in the title bar of the visitor’s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ed as the title in a browser’s list of favorites or bookmarks if add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description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s a brief explanation of what visitors can find at your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Keywords</a:t>
            </a:r>
            <a:r>
              <a:rPr b="1" i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re terms that describe the content of your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9528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Propertie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Type your Title in the Title text box, 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Page description text box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and type in a description for the site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Add keywords to the Keywords text box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the Save button on the Common toolbar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2392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copy of an existing page by using the N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w From Existing Page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mman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" name="Picture 4" descr="FigB-14.bmp"/>
          <p:cNvPicPr/>
          <p:nvPr/>
        </p:nvPicPr>
        <p:blipFill>
          <a:blip r:embed="rId2"/>
          <a:stretch/>
        </p:blipFill>
        <p:spPr>
          <a:xfrm>
            <a:off x="1523880" y="3124080"/>
            <a:ext cx="7373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inks in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warning is sent if files are deleted that have links to other pa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Files are moved or renamed in order to fix broken link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hen a new page is created from an existing page, the description and keywords from the original page are retained. 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77724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Folder to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th of the root folder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" name="Picture 4" descr="FigB-17.bmp"/>
          <p:cNvPicPr/>
          <p:nvPr/>
        </p:nvPicPr>
        <p:blipFill>
          <a:blip r:embed="rId2"/>
          <a:stretch/>
        </p:blipFill>
        <p:spPr>
          <a:xfrm>
            <a:off x="1371600" y="2666880"/>
            <a:ext cx="7597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Folder to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47560" y="1447560"/>
            <a:ext cx="7391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sset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Enter]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1828800" y="2666880"/>
            <a:ext cx="66294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mote Web Site View button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t the bottom of the editing wind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8" name="Picture 4" descr="FigB-19.bmp"/>
          <p:cNvPicPr/>
          <p:nvPr/>
        </p:nvPicPr>
        <p:blipFill>
          <a:blip r:embed="rId2"/>
          <a:stretch/>
        </p:blipFill>
        <p:spPr>
          <a:xfrm>
            <a:off x="2438280" y="228600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earch and plan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lan the page layou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Web page and set CSS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ports View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FigB-20.bmp"/>
          <p:cNvPicPr/>
          <p:nvPr/>
        </p:nvPicPr>
        <p:blipFill>
          <a:blip r:embed="rId2"/>
          <a:stretch/>
        </p:blipFill>
        <p:spPr>
          <a:xfrm>
            <a:off x="1981080" y="18288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cently added files link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Site Summary repor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ist arrow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next to the Recently Added Files report name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blem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Unlinked Fi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View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t the bottom of the editing windo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37160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file you need 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4" descr="FigB-21.bmp"/>
          <p:cNvPicPr/>
          <p:nvPr/>
        </p:nvPicPr>
        <p:blipFill>
          <a:blip r:embed="rId3"/>
          <a:stretch/>
        </p:blipFill>
        <p:spPr>
          <a:xfrm>
            <a:off x="2590920" y="2362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s View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lose Sit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xi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title, page description, and keyword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Manage Web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folder to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ange the Web site vie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2189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eveloping a Web site involves the following step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earch and plan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esign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2" marL="1123200" indent="-22392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ite map: A diagram depicting how a Web site’s pages are related within the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23200" indent="-22392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age layout: The placement of content, graphics, and navigation on each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Build and test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ublish and market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97" name="Content Placeholder 4" descr="FigB-01.bmp"/>
          <p:cNvPicPr/>
          <p:nvPr/>
        </p:nvPicPr>
        <p:blipFill>
          <a:blip r:embed="rId1"/>
          <a:stretch/>
        </p:blipFill>
        <p:spPr>
          <a:xfrm>
            <a:off x="1600200" y="2133720"/>
            <a:ext cx="7203960" cy="320040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716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eps in the Web site development proc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5438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lanning the Page Layou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7560" y="1371240"/>
            <a:ext cx="7391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Sketch it on paper firs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Draw on existing conventions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Be consisten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Keep it simpl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Focus on navigation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Decide on a siz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xed page desig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iquid page desig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394c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step is to create a root fold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oot folder is a folder on your hard drive, USB drive, or network drive that stores all the files that make up your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3 options for creating sit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imple Web site with one blank pa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mpty Web site to add pages to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ire Web site based on templates that generate all pages of the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Page and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CSS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94920" y="1294920"/>
            <a:ext cx="7543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SS position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reate div elements in HTML documen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Use style sheets to position them on them on the pa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Div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are rectangular areas that can be positioned on the page to hold content, including text and imag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Content Placeholder 4" descr="FigB-10.bmp"/>
          <p:cNvPicPr/>
          <p:nvPr/>
        </p:nvPicPr>
        <p:blipFill>
          <a:blip r:embed="rId3"/>
          <a:stretch/>
        </p:blipFill>
        <p:spPr>
          <a:xfrm>
            <a:off x="2286000" y="3745080"/>
            <a:ext cx="6553080" cy="24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3:32Z</dcterms:modified>
  <cp:revision>78</cp:revision>
  <dc:subject/>
  <dc:title>Computer Concepts-Illustrated Introductory, Sixth Edition, Enhanced</dc:title>
</cp:coreProperties>
</file>