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7EFC-CE99-47AC-BF85-DCB9E814D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A023-5300-4123-93ED-69FD48290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A62D-A8A0-4CB5-BBEE-59548B5AA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BA32-BAA0-4A76-91C6-EF4067621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94FF4-D74E-454B-83F5-7FAD2D47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325BA-7808-4BE9-AAA5-88A19C3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543CE-6DF1-4EFB-BC44-E4971387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9D24D-32F6-483B-A46F-4219A5CB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BE35-6851-4B08-B392-CACAE671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DCDDD-350A-4E62-900A-7AF67DE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E0EC2-1705-45C2-B2AE-5C6FFFA2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284F-E0CB-4EE3-8D9F-0ED949B44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7978A-C11C-4974-A5AC-67CA32D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2D866-8D3F-47AD-BFFA-827A18C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07EC-C7C8-46CB-800D-0F212DC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B3A96-3553-49ED-ABBA-17D49F0C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D4F69-C759-436F-A9A5-0C0612CD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3771-7C8A-45C1-BB7A-D0F851B5E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0B74-226B-4D81-9030-F7F8D4133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5436-121C-4443-9FC1-3EF002B12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0A5F-65ED-43A6-8EA0-07F727EBC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DDF0-673D-486C-944A-3BCC57183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0F8F-C6C8-4231-AFD8-712958BEB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E557-AEC5-4986-93EA-996CDA85B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D86-2B33-485A-940A-5A12000BE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FBEF-962D-4E1D-9140-247C5463AB9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79640"/>
            <a:ext cx="1143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 - 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B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reat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Page and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CSS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4920" y="1447560"/>
            <a:ext cx="75438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Expression Web includes prestructured, browser-tested CSS page layout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746748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contents of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tit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element are not displayed on the page itself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ed in the title bar of the visitor’s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ed as the title in a browser’s list of favorites or bookmarks if add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description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s a brief explanation of what visitors can find at your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Keywords</a:t>
            </a:r>
            <a:r>
              <a:rPr b="1" i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re terms that describe the content of your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9528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Propertie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Type your Title in the Title text box, 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3100" spc="-1" strike="noStrike">
                <a:solidFill>
                  <a:srgbClr val="0394c1"/>
                </a:solidFill>
                <a:latin typeface="Arial"/>
              </a:rPr>
              <a:t>Page description text box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and type in a description for the site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Add keywords to the Keywords text box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Click the Save button on the Common toolbar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Title, Page Description, and Keyword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23924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copy of an existing page by using the N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w From Existing Page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mman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9" name="Picture 4" descr="FigB-14.bmp"/>
          <p:cNvPicPr/>
          <p:nvPr/>
        </p:nvPicPr>
        <p:blipFill>
          <a:blip r:embed="rId2"/>
          <a:stretch/>
        </p:blipFill>
        <p:spPr>
          <a:xfrm>
            <a:off x="1523880" y="3124080"/>
            <a:ext cx="7373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inks in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warning is sent if files are deleted that have links to other pa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Files are moved or renamed in order to fix broken link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Managing Web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hen a new page is created from an existing page, the description and keywords from the original page are retained. 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77724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Folder to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th of the root folder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0" name="Picture 4" descr="FigB-17.bmp"/>
          <p:cNvPicPr/>
          <p:nvPr/>
        </p:nvPicPr>
        <p:blipFill>
          <a:blip r:embed="rId2"/>
          <a:stretch/>
        </p:blipFill>
        <p:spPr>
          <a:xfrm>
            <a:off x="1371600" y="2666880"/>
            <a:ext cx="7597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Folder to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47560" y="1447560"/>
            <a:ext cx="73911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sset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Enter]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1828800" y="2666880"/>
            <a:ext cx="662940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mote Web Site View button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t the bottom of the editing wind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8" name="Picture 4" descr="FigB-19.bmp"/>
          <p:cNvPicPr/>
          <p:nvPr/>
        </p:nvPicPr>
        <p:blipFill>
          <a:blip r:embed="rId2"/>
          <a:stretch/>
        </p:blipFill>
        <p:spPr>
          <a:xfrm>
            <a:off x="2438280" y="228600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earch and plan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lan the page layou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Web page and set CSS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160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ports View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FigB-20.bmp"/>
          <p:cNvPicPr/>
          <p:nvPr/>
        </p:nvPicPr>
        <p:blipFill>
          <a:blip r:embed="rId2"/>
          <a:stretch/>
        </p:blipFill>
        <p:spPr>
          <a:xfrm>
            <a:off x="1981080" y="18288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cently added files link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Site Summary repor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ist arrow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next to the Recently Added Files report name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roblem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Unlinked Fi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s View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t the bottom of the editing windo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37160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file you need in the Folder List task pan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9" name="Picture 4" descr="FigB-21.bmp"/>
          <p:cNvPicPr/>
          <p:nvPr/>
        </p:nvPicPr>
        <p:blipFill>
          <a:blip r:embed="rId3"/>
          <a:stretch/>
        </p:blipFill>
        <p:spPr>
          <a:xfrm>
            <a:off x="2590920" y="2362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anging the Web Site View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lders View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lose Sit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il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xi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title, page description, and keyword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Manage Web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folder to a Web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ange the Web site vie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95280" y="12189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eveloping a Web site involves the following step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earch and plan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esign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2" marL="1123200" indent="-22392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ite map: A diagram depicting how a Web site’s pages are related within the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23200" indent="-22392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age layout: The placement of content, graphics, and navigation on each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Build and test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86960" indent="-33876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ublish and market the si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97" name="Content Placeholder 4" descr="FigB-01.bmp"/>
          <p:cNvPicPr/>
          <p:nvPr/>
        </p:nvPicPr>
        <p:blipFill>
          <a:blip r:embed="rId1"/>
          <a:stretch/>
        </p:blipFill>
        <p:spPr>
          <a:xfrm>
            <a:off x="1600200" y="2133720"/>
            <a:ext cx="7203960" cy="3200400"/>
          </a:xfrm>
          <a:prstGeom prst="rect">
            <a:avLst/>
          </a:prstGeom>
          <a:ln w="0">
            <a:noFill/>
          </a:ln>
        </p:spPr>
      </p:pic>
      <p:sp>
        <p:nvSpPr>
          <p:cNvPr id="9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716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eps in the Web site development proc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arching and Planning a Web Site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5438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lanning the Page Layou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47560" y="1371240"/>
            <a:ext cx="7391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Sketch it on paper firs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Draw on existing conventions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Be consisten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Keep it simpl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Focus on navigation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Decide on a siz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xed page desig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iquid page design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sit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394c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step is to create a root fold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oot folder is a folder on your hard drive, USB drive, or network drive that stores all the files that make up your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3 options for creating sit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imple Web site with one blank pa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mpty Web site to add pages to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ntire Web site based on templates that generate all pages of the si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Web Page and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CSS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94920" y="1294920"/>
            <a:ext cx="75438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SS position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reate div elements in HTML documen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Use style sheets to position them on them on the pa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Div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are rectangular areas that can be positioned on the page to hold content, including text and imag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2" name="Content Placeholder 4" descr="FigB-10.bmp"/>
          <p:cNvPicPr/>
          <p:nvPr/>
        </p:nvPicPr>
        <p:blipFill>
          <a:blip r:embed="rId3"/>
          <a:stretch/>
        </p:blipFill>
        <p:spPr>
          <a:xfrm>
            <a:off x="2286000" y="3745080"/>
            <a:ext cx="6553080" cy="246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3:32Z</dcterms:modified>
  <cp:revision>78</cp:revision>
  <dc:subject/>
  <dc:title>Computer Concepts-Illustrated Introductory, Sixth Edition, Enhanced</dc:title>
</cp:coreProperties>
</file>