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56ED-3E5F-49CA-99FF-EF26FD004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6769-F605-4E68-BCAF-05A862EE6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DB69-CA95-4406-9F1E-26846AECB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6D397-AA6B-48BB-ABCF-4642AA0FA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9765E-32A2-462E-B554-511D278D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5A151-1372-4089-9846-00C3132D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EB05C-4AAE-4855-8673-DBC4FEA5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2D62E-6037-4A55-9DE2-92991F44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CD719-767E-4B85-96BF-D48359B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348FC-E7BA-4D7C-B044-9804E888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B06B2-B65F-4798-884F-F5411F01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E195-B83A-46B7-BCF8-CDB3E9C27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A58D5-A661-468C-99E9-D56DC2AD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7D4FA-9D86-4702-B628-08E57351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389F5-3F58-4DCB-B143-C63764EC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911C9-9569-432C-9AB7-15526743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931F8-BA10-495D-B07F-124818CD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3705-8464-4275-AEA3-0498DD888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9843-1777-4139-8B5E-E560BCD29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4B68-BD12-406C-8FB4-EC2C9F502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05A0-3EC7-4441-952D-24892EB76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74E3-C18C-4B64-9A0F-0D74ED463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8B3C-9EE2-419C-838B-473D65DF1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568C7-09ED-4956-8753-83EF722AE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C2FD-0312-459A-A53E-C9595356C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19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94920" y="1218960"/>
            <a:ext cx="750420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C940-5C03-47B0-9D41-81FFFA94CDD0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1905120"/>
            <a:ext cx="114300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-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C: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ing Text and Link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yping Text and Inserting Symbol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ding Text to a foot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nsert cursor in the footer div and add text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dd a symbol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menu ba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Symbo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yping Text and Inserting Symbol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clude text-only navigation links at the bottom of each page that duplicate image-based navigati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Helpful to disabled viewer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Helpful to users accessing the site via cell phones or handheld devic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rovides convenient alternate method of navigati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ecking Spelling and 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sing the Thesauru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on a word that could be misspelled in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page_content div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as shown below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4" descr="FigC-10.bmp"/>
          <p:cNvPicPr/>
          <p:nvPr/>
        </p:nvPicPr>
        <p:blipFill>
          <a:blip r:embed="rId2"/>
          <a:stretch/>
        </p:blipFill>
        <p:spPr>
          <a:xfrm>
            <a:off x="1752480" y="2362320"/>
            <a:ext cx="66294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ecking Spelling and 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sing the Thesauru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The word appears spelled correctly on the shortcut menu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ick the properly spelled word 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ecking Spelling and 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sing the Thesauru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a word and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Replac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a synonym you’d like to use and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Add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ave your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4" descr="FigC-11.bmp"/>
          <p:cNvPicPr/>
          <p:nvPr/>
        </p:nvPicPr>
        <p:blipFill>
          <a:blip r:embed="rId4"/>
          <a:stretch/>
        </p:blipFill>
        <p:spPr>
          <a:xfrm>
            <a:off x="1523880" y="3200400"/>
            <a:ext cx="72392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lect a word in the foot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the selected word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shortcut menu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Picture 4" descr="FigC-13.bmp"/>
          <p:cNvPicPr/>
          <p:nvPr/>
        </p:nvPicPr>
        <p:blipFill>
          <a:blip r:embed="rId3"/>
          <a:stretch/>
        </p:blipFill>
        <p:spPr>
          <a:xfrm>
            <a:off x="2362320" y="3048120"/>
            <a:ext cx="533376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location of the spot you want to link to under Link to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" name="Content Placeholder 4" descr="FigC-14.bmp"/>
          <p:cNvPicPr/>
          <p:nvPr/>
        </p:nvPicPr>
        <p:blipFill>
          <a:blip r:embed="rId3"/>
          <a:stretch/>
        </p:blipFill>
        <p:spPr>
          <a:xfrm>
            <a:off x="2514600" y="2514600"/>
            <a:ext cx="501336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ternal Links</a:t>
            </a: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links between pages or files within the same Web sit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 working link has 2 part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Source ancho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The word, phrase, or image on a Web page that, when clicked, leads to another page or file</a:t>
            </a: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Destination Ancho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The file or page that opens when a visitor clicks the link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RL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Defines the location of a file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Absolute URLs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Used by external files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Contain a path that describes the protocol, domain name, and file path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Example: http://centraluniversity.com/library/hours.htm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Relative URLs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Used by internal files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Contain a path that describes only the location of the file being linked relative to the source file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Example: ../contact.htm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lect the text to be hyperlinked, right-click the selection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sert Hyperlink dialog box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s, as shown on the following slid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5280" y="2057400"/>
            <a:ext cx="73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sert a text file into a Web pag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aste text into a Web pag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ype text and insert symbol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eck spelling and use the thesauru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 internal 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47" name="Content Placeholder 4" descr="FigC-15.bmp"/>
          <p:cNvPicPr/>
          <p:nvPr/>
        </p:nvPicPr>
        <p:blipFill>
          <a:blip r:embed="rId1"/>
          <a:stretch/>
        </p:blipFill>
        <p:spPr>
          <a:xfrm>
            <a:off x="1447920" y="2057400"/>
            <a:ext cx="7391160" cy="370692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Address box, type the URL you are linking to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arget Fram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2" name="Picture 4" descr="FigC-16.bmp"/>
          <p:cNvPicPr/>
          <p:nvPr/>
        </p:nvPicPr>
        <p:blipFill>
          <a:blip r:embed="rId3"/>
          <a:stretch/>
        </p:blipFill>
        <p:spPr>
          <a:xfrm>
            <a:off x="2971800" y="2895480"/>
            <a:ext cx="365760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New Window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n the Common targets list if you want the link to open in a new window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agai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o make changes to a hyperlin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ight-click the link in Design view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Select Hyperlink Properties from the shortcut menu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he browser window or frame in which the destination file open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You can target internal or external links but not email link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op-up block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oftware that prevents new browser windows from opening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reating and Linking to a Bookmark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94920" y="18284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the link to be bookmarked,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Bookmar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2" name="Picture 4" descr="FigC-18.bmp"/>
          <p:cNvPicPr/>
          <p:nvPr/>
        </p:nvPicPr>
        <p:blipFill>
          <a:blip r:embed="rId2"/>
          <a:stretch/>
        </p:blipFill>
        <p:spPr>
          <a:xfrm>
            <a:off x="5486400" y="2057400"/>
            <a:ext cx="3440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reating and Linking to a Bookmark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the text you want to hyperlin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Hyperlink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on the shortcut menu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correct location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under Link to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the bookmark and click O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reating and Linking to a Bookmark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67" name="Content Placeholder 4" descr="FigC-20.bmp"/>
          <p:cNvPicPr/>
          <p:nvPr/>
        </p:nvPicPr>
        <p:blipFill>
          <a:blip r:embed="rId1"/>
          <a:stretch/>
        </p:blipFill>
        <p:spPr>
          <a:xfrm>
            <a:off x="1447920" y="1600200"/>
            <a:ext cx="7391160" cy="4363920"/>
          </a:xfrm>
          <a:prstGeom prst="rect">
            <a:avLst/>
          </a:prstGeom>
          <a:ln w="0">
            <a:noFill/>
          </a:ln>
        </p:spPr>
      </p:pic>
      <p:sp>
        <p:nvSpPr>
          <p:cNvPr id="16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7560" y="105552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ing a link to the bookma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reating and Linking to a Bookmark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ookmar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lso known as a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named ancho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 marker at a specific spot on a Web page that can be used as a destination ancho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Often used to create a table of contents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an also be used to link from one section of a page to another section of that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-mai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952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an email addres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the selecti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Hyperlin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Picture 5" descr="FigC-21.bmp"/>
          <p:cNvPicPr/>
          <p:nvPr/>
        </p:nvPicPr>
        <p:blipFill>
          <a:blip r:embed="rId4"/>
          <a:stretch/>
        </p:blipFill>
        <p:spPr>
          <a:xfrm>
            <a:off x="2133720" y="3124080"/>
            <a:ext cx="615312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-mai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E-mail Address button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under Link to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@emailaddress.com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n the E-mail address text box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ype a description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n the Subject text box,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ave changes to the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2057400"/>
            <a:ext cx="73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 external 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d link to a bookmar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 e-mail 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opy and paste content between pa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-mai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81" name="Content Placeholder 4" descr="FigC-22.bmp"/>
          <p:cNvPicPr/>
          <p:nvPr/>
        </p:nvPicPr>
        <p:blipFill>
          <a:blip r:embed="rId1"/>
          <a:stretch/>
        </p:blipFill>
        <p:spPr>
          <a:xfrm>
            <a:off x="1447920" y="1828800"/>
            <a:ext cx="7391160" cy="370692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434960" y="113184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ing the e-mail lin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opying and Pasting Content Between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default.htm tab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at the end of the copyright line in the footer div,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Spacebar]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│]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Spacebar]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gain, right-click after the space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he text is pasted as shown in the figure on the following slid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opying and Pasting Content Between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Select the text to be copied 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Copy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 on the shortcut menu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Position the cursor where you want to paste the copied text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opying and Pasting Content Between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When text is pasted between pages, the formatting and links are maintained.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394c1"/>
                </a:solidFill>
                <a:latin typeface="Arial"/>
              </a:rPr>
              <a:t>Inserting a Text File into a Web Page</a:t>
            </a:r>
            <a:endParaRPr b="1" lang="en-US" sz="3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71600" y="1295280"/>
            <a:ext cx="73915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ext fil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Has a .txt file extension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onsists of basic text such as font faces, colors, and sizes; bold; or italics.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Good for Web page creation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llows formatting to be controlled through Expression Web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394c1"/>
                </a:solidFill>
                <a:latin typeface="Arial"/>
              </a:rPr>
              <a:t>Inserting a Text File into a Web Page</a:t>
            </a:r>
            <a:endParaRPr b="1" lang="en-US" sz="3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dding Tex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Working in Design view allows more control over how the text is added to the page.  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Make sure to add content to the correct div by using the visual aids and quick tag selector as guid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394c1"/>
                </a:solidFill>
                <a:latin typeface="Arial"/>
              </a:rPr>
              <a:t>Inserting a Text File into a Web Page</a:t>
            </a:r>
            <a:endParaRPr b="1" lang="en-US" sz="3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20222"/>
                </a:solidFill>
                <a:latin typeface="Arial"/>
              </a:rPr>
              <a:t>Options for Pasting Tex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371600" y="2631960"/>
            <a:ext cx="7772400" cy="28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asting Text into a Web Pag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394c1"/>
                </a:solidFill>
                <a:latin typeface="Arial"/>
              </a:rPr>
              <a:t>Pasting text into a Web page allows for more formatting control than inserting it.</a:t>
            </a:r>
            <a:endParaRPr b="0" lang="en-US" sz="33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 Options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has options for controlling pasted formatting.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asting Text into a Web Pag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a Word document to choose text from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ress [Ctrl][A] to select the tex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ress [Ctrl][C] to copy the text 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ose Wor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Expression Web, right-click i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ge_content div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and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oose an option from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 Options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asting Text into a Web Pag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0222"/>
                </a:solidFill>
                <a:latin typeface="Arial"/>
              </a:rPr>
              <a:t>Options for Pasting Tex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1295280" y="2563920"/>
            <a:ext cx="78487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3:43Z</dcterms:modified>
  <cp:revision>82</cp:revision>
  <dc:subject/>
  <dc:title>Computer Concepts-Illustrated Introductory, Sixth Edition, Enhanced</dc:title>
</cp:coreProperties>
</file>