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B5F43-2D56-4FFE-9650-FDEEF4EBE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FA67-E5F2-473C-94E2-F2404C6F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748F-5AA2-4758-AEB5-17FC6186A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A038-94D7-4140-A9C0-29C633C92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0E98D-2979-4BF7-8602-0AD29858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36C16-1BFB-4296-B2F3-EA3666A3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6942-70A5-4595-A0AD-D7992A4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3C0C8-8F9A-40C8-8F16-BF9762A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E9BB3-F582-449B-9AC5-C8205F87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9EB01-6924-46F8-A10E-4557BF5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2CA1C-C8F3-4FC4-BC30-F20FD447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E702-D434-4718-85E3-A4EE1C874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7D79-B4A5-43EB-9D92-653021E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EA937-C30F-4EA3-A0A5-29F990E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85429-2AB4-402B-825D-0F4A1791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A8155-FBF5-4F19-928F-1CBFEC91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FE6F5-5CBB-4D9B-B926-E5032EFF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70A38-AE26-45E9-AA5D-30BFE7AE2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AAADC-40E9-4ACB-AA2D-AC8AB8DBC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E3D8-92DC-4F87-881B-A7D886555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0B08-D0F9-465B-BE24-001BF1C41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E84E-1EE8-4A81-BDD0-2DE307A34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FA12A-0015-4F79-83DD-44B95F6B7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8308-EFCC-4B8A-BDD9-80D3241FC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6BD0-D161-4F22-B039-21706AA6E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94920" y="1218960"/>
            <a:ext cx="7504200" cy="49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AC01-FEB6-4779-8FBC-3177AA572EB5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05120"/>
            <a:ext cx="1143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C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dding Text and Link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yping Text and Inserting Symbol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ing Text to a foot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sert cursor in the footer div and add tex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dd a symbol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ymbo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yping Text and Inserting Symbol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clude text-only navigation links at the bottom of each page that duplicate image-based naviga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elpful to disabled viewer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elpful to users accessing the site via cell phones or handheld devic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rovides convenient alternate method of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on a word that could be misspelled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age_content div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as shown bel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4" descr="FigC-10.bmp"/>
          <p:cNvPicPr/>
          <p:nvPr/>
        </p:nvPicPr>
        <p:blipFill>
          <a:blip r:embed="rId2"/>
          <a:stretch/>
        </p:blipFill>
        <p:spPr>
          <a:xfrm>
            <a:off x="1752480" y="2362320"/>
            <a:ext cx="66294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The word appears spelled correctly on the shortcut menu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the properly spelled word 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hecking Spelling and 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sing the Thesauru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a word and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plac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a synonym you’d like to use and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your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C-11.bmp"/>
          <p:cNvPicPr/>
          <p:nvPr/>
        </p:nvPicPr>
        <p:blipFill>
          <a:blip r:embed="rId4"/>
          <a:stretch/>
        </p:blipFill>
        <p:spPr>
          <a:xfrm>
            <a:off x="1523880" y="3200400"/>
            <a:ext cx="72392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lect a word in the foot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ight-click the selected word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hortcut menu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FigC-13.bmp"/>
          <p:cNvPicPr/>
          <p:nvPr/>
        </p:nvPicPr>
        <p:blipFill>
          <a:blip r:embed="rId3"/>
          <a:stretch/>
        </p:blipFill>
        <p:spPr>
          <a:xfrm>
            <a:off x="2362320" y="3048120"/>
            <a:ext cx="533376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location of the spot you want to link to under Link to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Content Placeholder 4" descr="FigC-14.bmp"/>
          <p:cNvPicPr/>
          <p:nvPr/>
        </p:nvPicPr>
        <p:blipFill>
          <a:blip r:embed="rId3"/>
          <a:stretch/>
        </p:blipFill>
        <p:spPr>
          <a:xfrm>
            <a:off x="2514600" y="2514600"/>
            <a:ext cx="501336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ternal Links</a:t>
            </a: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inks between pages or files within the same Web sit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 working link has 2 par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Source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he word, phrase, or image on a Web page that, when clicked, leads to another page or file</a:t>
            </a: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Destination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he file or page that opens when a visitor clicks the link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RL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Defines the location of a file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Absolute URL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Used by external files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Contain a path that describes the protocol, domain name, and file path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Example: http://centraluniversity.com/library/hours.htm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394c1"/>
                </a:solidFill>
                <a:latin typeface="Arial"/>
              </a:rPr>
              <a:t>Relative URLs</a:t>
            </a:r>
            <a:endParaRPr b="0" lang="en-US" sz="31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Used by internal files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Contain a path that describes only the location of the file being linked relative to the source file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94c1"/>
                </a:solidFill>
                <a:latin typeface="Arial"/>
              </a:rPr>
              <a:t>Example: ../contact.htm</a:t>
            </a:r>
            <a:endParaRPr b="0" lang="en-US" sz="2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lect the text to be hyperlinked, right-click the selection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yper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 Hyperlink dialog box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s, as shown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2057400"/>
            <a:ext cx="73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sert a text file into a Web pag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aste text into a Web pag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text and insert symbol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eck spelling and use the thesauru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interna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47" name="Content Placeholder 4" descr="FigC-15.bmp"/>
          <p:cNvPicPr/>
          <p:nvPr/>
        </p:nvPicPr>
        <p:blipFill>
          <a:blip r:embed="rId1"/>
          <a:stretch/>
        </p:blipFill>
        <p:spPr>
          <a:xfrm>
            <a:off x="1447920" y="2057400"/>
            <a:ext cx="7391160" cy="370692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Address box, type the URL you are linking to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arget Fram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2" name="Picture 4" descr="FigC-16.bmp"/>
          <p:cNvPicPr/>
          <p:nvPr/>
        </p:nvPicPr>
        <p:blipFill>
          <a:blip r:embed="rId3"/>
          <a:stretch/>
        </p:blipFill>
        <p:spPr>
          <a:xfrm>
            <a:off x="2971800" y="289548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New Window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Common targets list if you want the link to open in a new wind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o make changes to a 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ight-click the link in Design view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Select Hyperlink Properties from the shortcut menu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xterna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 browser window or frame in which the destination file open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You can target internal or external links but not email link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op-up block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oftware that prevents new browser windows from opening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4920" y="1828440"/>
            <a:ext cx="3962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link to be bookmarked,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ookmar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4" descr="FigC-18.bmp"/>
          <p:cNvPicPr/>
          <p:nvPr/>
        </p:nvPicPr>
        <p:blipFill>
          <a:blip r:embed="rId2"/>
          <a:stretch/>
        </p:blipFill>
        <p:spPr>
          <a:xfrm>
            <a:off x="5486400" y="2057400"/>
            <a:ext cx="3440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text you want to 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Hyperlink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correct location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under Link to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bookmark and click O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67" name="Content Placeholder 4" descr="FigC-20.bmp"/>
          <p:cNvPicPr/>
          <p:nvPr/>
        </p:nvPicPr>
        <p:blipFill>
          <a:blip r:embed="rId1"/>
          <a:stretch/>
        </p:blipFill>
        <p:spPr>
          <a:xfrm>
            <a:off x="1447920" y="1600200"/>
            <a:ext cx="7391160" cy="4363920"/>
          </a:xfrm>
          <a:prstGeom prst="rect">
            <a:avLst/>
          </a:prstGeom>
          <a:ln w="0">
            <a:noFill/>
          </a:ln>
        </p:spPr>
      </p:pic>
      <p:sp>
        <p:nvSpPr>
          <p:cNvPr id="16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7560" y="105552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ing a link to the bookma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reating and Linking to a Bookmark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okmar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lso known as a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named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marker at a specific spot on a Web page that can be used as a destination ancho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ften used to create a table of contents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an also be used to link from one section of a page to another section of that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95280" y="13712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an email addres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selec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6" name="Picture 5" descr="FigC-21.bmp"/>
          <p:cNvPicPr/>
          <p:nvPr/>
        </p:nvPicPr>
        <p:blipFill>
          <a:blip r:embed="rId4"/>
          <a:stretch/>
        </p:blipFill>
        <p:spPr>
          <a:xfrm>
            <a:off x="2133720" y="3124080"/>
            <a:ext cx="615312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E-mail Address button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under Link to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@emailaddress.com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E-mail address text box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 a description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in the Subject text box,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changes to the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057400"/>
            <a:ext cx="73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externa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d link to a bookmar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e-mail lin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py and paste content between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E-mail Link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1" name="Content Placeholder 4" descr="FigC-22.bmp"/>
          <p:cNvPicPr/>
          <p:nvPr/>
        </p:nvPicPr>
        <p:blipFill>
          <a:blip r:embed="rId1"/>
          <a:stretch/>
        </p:blipFill>
        <p:spPr>
          <a:xfrm>
            <a:off x="1447920" y="1828800"/>
            <a:ext cx="7391160" cy="370692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34960" y="1131840"/>
            <a:ext cx="38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ing the e-mail lin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at the end of the copyright line in the footer div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│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gain, right-click after the space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text is pasted as shown in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Select the text to be copied 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py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Position the cursor where you want to paste the copied text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opying and Pasting Content Between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hen text is pasted between pages, the formatting and links are maintained.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71600" y="1295280"/>
            <a:ext cx="739152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ext fi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as a .txt file extension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onsists of basic text such as font faces, colors, and sizes; bold; or italics.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Good for Web page creation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llows formatting to be controlled through Expression Web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dding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Working in Design view allows more control over how the text is added to the page. 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Make sure to add content to the correct div by using the visual aids and quick tag selector as guid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394c1"/>
                </a:solidFill>
                <a:latin typeface="Arial"/>
              </a:rPr>
              <a:t>Inserting a Text File into a Web Page</a:t>
            </a:r>
            <a:endParaRPr b="1" lang="en-US" sz="3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20222"/>
                </a:solidFill>
                <a:latin typeface="Arial"/>
              </a:rPr>
              <a:t>Options for Pasting Tex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371600" y="2631960"/>
            <a:ext cx="7772400" cy="28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394c1"/>
                </a:solidFill>
                <a:latin typeface="Arial"/>
              </a:rPr>
              <a:t>Pasting text into a Web page allows for more formatting control than inserting it.</a:t>
            </a:r>
            <a:endParaRPr b="0" lang="en-US" sz="33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 Options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has options for controlling pasted formatting.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a Word document to choose text from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ss [Ctrl][A] to select the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ss [Ctrl][C] to copy the text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ose Wor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Expression Web, right-click i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ge_content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nd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an option from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 Options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Pasting Text into a Web Pag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0222"/>
                </a:solidFill>
                <a:latin typeface="Arial"/>
              </a:rPr>
              <a:t>Options for Pasting Tex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1295280" y="2563920"/>
            <a:ext cx="78487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3:43Z</dcterms:modified>
  <cp:revision>82</cp:revision>
  <dc:subject/>
  <dc:title>Computer Concepts-Illustrated Introductory, Sixth Edition, Enhanced</dc:title>
</cp:coreProperties>
</file>