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19C4E-A866-4C42-A2AF-85926203A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34FC4-830B-45D1-AB8A-57DD51E74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48B46-082C-4ACB-B081-D1D2489C2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1536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522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80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1536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522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90BD2-8352-435B-94B9-80B8B03A7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CA682-480F-495B-8032-F66F061E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49852-8BFA-4794-B8CA-1D844183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384A9-0410-431B-8DC9-4DEECE21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E1477-F255-46AC-BA39-AFEA2CE3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BE455-89A2-446B-BFCE-B644EC31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74495-0CF9-4A78-BAA8-EBB4D2A2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FBBA2-25F8-4D48-84DE-46AED998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D0532-92AA-4061-8CA1-525A327B3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5F6C5-057E-4E17-AACF-564E493D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3BD7D-7FAB-4C0B-B5EE-2AB77ED0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7D0CC-EBB0-42CD-8D29-2D31D073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32C54-72D8-46ED-8B07-81126811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1536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522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80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1536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522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DDCA7-53C6-4E4E-BF69-9B6A1DD5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3F6B7-F984-42C6-A813-7F791BFE8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0461F-4EA9-4BD6-8031-8A8E21B71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C6A19-7D9C-44CF-89DA-4141F44BD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5EE4B-CBFD-4927-89DC-B134156E7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1D86E-E27A-487A-86C9-911EEB670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AEF21-9779-4B6F-BE2D-EF02C03F9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55235-E193-4A89-8518-7892EE2D9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738720" indent="-318240">
              <a:spcBef>
                <a:spcPts val="18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2" marL="1054440" indent="-210240">
              <a:spcBef>
                <a:spcPts val="1800"/>
              </a:spcBef>
              <a:buClr>
                <a:srgbClr val="0394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3" marL="1472040" indent="-210240">
              <a:spcBef>
                <a:spcPts val="1800"/>
              </a:spcBef>
              <a:buClr>
                <a:srgbClr val="0394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4" marL="1892520" indent="-210240">
              <a:spcBef>
                <a:spcPts val="1800"/>
              </a:spcBef>
              <a:buClr>
                <a:srgbClr val="0394c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5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6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3716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icrosoft Expression Web - IllustratedMicrosoft Expression Web - Illus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26280" y="6248520"/>
            <a:ext cx="123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4FF4-5C8D-48C3-BEDB-2358409E7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"/>
          <p:cNvPicPr/>
          <p:nvPr/>
        </p:nvPicPr>
        <p:blipFill>
          <a:blip r:embed="rId4"/>
          <a:stretch/>
        </p:blipFill>
        <p:spPr>
          <a:xfrm>
            <a:off x="0" y="0"/>
            <a:ext cx="1093680" cy="72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0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"/>
          <p:cNvPicPr/>
          <p:nvPr/>
        </p:nvPicPr>
        <p:blipFill>
          <a:blip r:embed="rId2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738720" indent="-318240">
              <a:spcBef>
                <a:spcPts val="18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2" marL="1054440" indent="-210240">
              <a:spcBef>
                <a:spcPts val="1800"/>
              </a:spcBef>
              <a:buClr>
                <a:srgbClr val="0394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3" marL="1472040" indent="-210240">
              <a:spcBef>
                <a:spcPts val="1800"/>
              </a:spcBef>
              <a:buClr>
                <a:srgbClr val="0394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4" marL="1892520" indent="-210240">
              <a:spcBef>
                <a:spcPts val="1800"/>
              </a:spcBef>
              <a:buClr>
                <a:srgbClr val="0394c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5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6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FD3A-9A2B-4DA8-8373-914BA8755B96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"/>
          <p:cNvPicPr/>
          <p:nvPr/>
        </p:nvPicPr>
        <p:blipFill>
          <a:blip r:embed="rId4"/>
          <a:stretch/>
        </p:blipFill>
        <p:spPr>
          <a:xfrm>
            <a:off x="0" y="2057400"/>
            <a:ext cx="1066680" cy="70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0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20222"/>
                </a:solidFill>
                <a:latin typeface="Arial"/>
              </a:rPr>
              <a:t>Microsoft Expression Web-Illustrate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nit E: 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orking with Pictures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Editing a Pictur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95280" y="1294920"/>
            <a:ext cx="73915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Right-click a picture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on the home page, then 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Show Pictures Toolbar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 on the shortcut menu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Picture 4" descr="TblE-02.bmp"/>
          <p:cNvPicPr/>
          <p:nvPr/>
        </p:nvPicPr>
        <p:blipFill>
          <a:blip r:embed="rId3"/>
          <a:stretch/>
        </p:blipFill>
        <p:spPr>
          <a:xfrm>
            <a:off x="2286000" y="2286000"/>
            <a:ext cx="551664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Editing a Pictur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47560" y="1600200"/>
            <a:ext cx="73911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To crop, click the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Crop button 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on the Pictures toolbar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Adjust the crop handles and press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[Enter]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1" name="Picture 4" descr="FigE-09.bmp"/>
          <p:cNvPicPr/>
          <p:nvPr/>
        </p:nvPicPr>
        <p:blipFill>
          <a:blip r:embed="rId4"/>
          <a:stretch/>
        </p:blipFill>
        <p:spPr>
          <a:xfrm>
            <a:off x="2895480" y="3124080"/>
            <a:ext cx="3962520" cy="30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Editing a Pictur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371600" y="1523880"/>
            <a:ext cx="73915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he Pictures toolbar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Has many image editing tools, including: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Grayscal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Wash-out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Rotat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Beveled edges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ake the time to experiment with the many editing tools available her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etting Wrapping Style and Margins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95280" y="1523880"/>
            <a:ext cx="7391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Double-click a pictur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8" name="Picture 4" descr="FigE-11.bmp"/>
          <p:cNvPicPr/>
          <p:nvPr/>
        </p:nvPicPr>
        <p:blipFill>
          <a:blip r:embed="rId4"/>
          <a:stretch/>
        </p:blipFill>
        <p:spPr>
          <a:xfrm>
            <a:off x="2743200" y="2133720"/>
            <a:ext cx="4495680" cy="39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etting Wrapping Style and Margins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76160" y="1447560"/>
            <a:ext cx="335268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the Appearance ta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under Wrapping styl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Adjust the picture’s margin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2" name="Content Placeholder 4" descr="FigE-12.bmp"/>
          <p:cNvPicPr/>
          <p:nvPr/>
        </p:nvPicPr>
        <p:blipFill>
          <a:blip r:embed="rId4"/>
          <a:stretch/>
        </p:blipFill>
        <p:spPr>
          <a:xfrm>
            <a:off x="5029200" y="1752480"/>
            <a:ext cx="4114800" cy="36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etting Wrapping Style and Margins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23880" y="1447560"/>
            <a:ext cx="739152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Wrapping Styl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Non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Default wrapping styl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Text does not flow around the picture, but starts at the bottom edg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Displays the picture on the left side with text wrapping around it on the right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Displays the picture on the right side with text wrapping around it on the left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Setting Auto Thumbnail Option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371600" y="1523880"/>
            <a:ext cx="73915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Tools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on the menu bar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age Editor Option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Auto Thumbnail ta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et list arrow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hoose setting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1295280" y="609588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9" name="Picture 4" descr="FigE-14.bmp"/>
          <p:cNvPicPr/>
          <p:nvPr/>
        </p:nvPicPr>
        <p:blipFill>
          <a:blip r:embed="rId5"/>
          <a:stretch/>
        </p:blipFill>
        <p:spPr>
          <a:xfrm>
            <a:off x="5334120" y="3581280"/>
            <a:ext cx="32400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Thumbnail Pictur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95280" y="1904760"/>
            <a:ext cx="739152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Insert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on the menu bar, point to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ictur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From Fil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Navigate to the folder where you store your pictures, click on one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Insert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ype a picture description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in the Alternate text field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Thumbnail Pictur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95280" y="1447560"/>
            <a:ext cx="78487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Right-click the picture 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Auto Thumbnail 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on the shortcut menu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Then click anywhere on the page outside the pictur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ave the pag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6" name="Picture 4" descr="FigE-15.bmp"/>
          <p:cNvPicPr/>
          <p:nvPr/>
        </p:nvPicPr>
        <p:blipFill>
          <a:blip r:embed="rId7"/>
          <a:stretch/>
        </p:blipFill>
        <p:spPr>
          <a:xfrm>
            <a:off x="4419720" y="29718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Thumbnail Pictur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47560" y="1523880"/>
            <a:ext cx="73911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Thumbnail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maller image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ave space on the page and minimize download tim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95280" y="2438280"/>
            <a:ext cx="7391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Understand Web graphic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Insert a pictur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Resize and resample a pictur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Edit a pictur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Styling a Thumbnail Pictur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95280" y="1218960"/>
            <a:ext cx="739152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Double-click a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thumbnail pictur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Appearance tab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Set the settings as you’d like them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3" name="Content Placeholder 4" descr="FigE-18.bmp"/>
          <p:cNvPicPr/>
          <p:nvPr/>
        </p:nvPicPr>
        <p:blipFill>
          <a:blip r:embed="rId5"/>
          <a:stretch/>
        </p:blipFill>
        <p:spPr>
          <a:xfrm>
            <a:off x="4343400" y="2895480"/>
            <a:ext cx="3797280" cy="33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95280" y="2437920"/>
            <a:ext cx="7391520" cy="37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Set wrapping style and margin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Set Auto Thumbnail option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reate a thumbnail pictur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Style a thumbnail pictur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nderstanding Web Graphic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95280" y="1371600"/>
            <a:ext cx="73915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Image measurements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Dimensions of an image are its height and width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File size affects how long it takes the picture to display in a browser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Page download time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Amount of time it takes a page to load into a browser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Image file formats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JPEG, GIF, PNG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nderstanding Web Graphic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97" name="Picture 5" descr="FigE-01.bmp"/>
          <p:cNvPicPr/>
          <p:nvPr/>
        </p:nvPicPr>
        <p:blipFill>
          <a:blip r:embed="rId1"/>
          <a:stretch/>
        </p:blipFill>
        <p:spPr>
          <a:xfrm>
            <a:off x="1828800" y="2133720"/>
            <a:ext cx="655956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FigE-02a.bmp"/>
          <p:cNvPicPr/>
          <p:nvPr/>
        </p:nvPicPr>
        <p:blipFill>
          <a:blip r:embed="rId2"/>
          <a:stretch/>
        </p:blipFill>
        <p:spPr>
          <a:xfrm>
            <a:off x="2057400" y="3429000"/>
            <a:ext cx="284328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FigE-02b.bmp"/>
          <p:cNvPicPr/>
          <p:nvPr/>
        </p:nvPicPr>
        <p:blipFill>
          <a:blip r:embed="rId3"/>
          <a:stretch/>
        </p:blipFill>
        <p:spPr>
          <a:xfrm>
            <a:off x="4495680" y="5105520"/>
            <a:ext cx="4114800" cy="8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Inserting a Pictur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71600" y="1371600"/>
            <a:ext cx="73915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Open a Web site in Expression Web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Insert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 on the menu bar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Point to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Picture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From Fil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Navigate to the folder where you store your picture, select an image, then 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Insert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in 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Alternate text field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, then type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a description of the pictur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3" name="Content Placeholder 4" descr="FigE-03.bmp"/>
          <p:cNvPicPr/>
          <p:nvPr/>
        </p:nvPicPr>
        <p:blipFill>
          <a:blip r:embed="rId6"/>
          <a:stretch/>
        </p:blipFill>
        <p:spPr>
          <a:xfrm>
            <a:off x="2362320" y="4495680"/>
            <a:ext cx="5816520" cy="17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Inserting a Pictur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95280" y="1904760"/>
            <a:ext cx="739152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ave button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on the Common toolbar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7" name="Picture 4" descr="TblE-01.bmp"/>
          <p:cNvPicPr/>
          <p:nvPr/>
        </p:nvPicPr>
        <p:blipFill>
          <a:blip r:embed="rId2"/>
          <a:stretch/>
        </p:blipFill>
        <p:spPr>
          <a:xfrm>
            <a:off x="1447920" y="3352680"/>
            <a:ext cx="7419960" cy="14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Resizing and Resampling a Pictur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1295280"/>
            <a:ext cx="73915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Resizing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Changing the height and width attributes in the &lt;img&gt; tag to make the image display differently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Resampling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Removes extra pixels, changing the dimensions and file size 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Improves clarity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Decreases download tim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Resizing and Resampling a Pictur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71600" y="1447560"/>
            <a:ext cx="739152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elect a pictur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Point to 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bottom-right corner resize handle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 until the cursor change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Press and hold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[Shift]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Drag 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resize handle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 to adjust the pictur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Picture Actions button list arrow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Resample Picture to Match Size option button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7:09:54Z</dcterms:created>
  <dc:creator/>
  <dc:description/>
  <dc:language>en-US</dc:language>
  <cp:lastModifiedBy>Thomson</cp:lastModifiedBy>
  <dcterms:modified xsi:type="dcterms:W3CDTF">2008-07-24T20:14:07Z</dcterms:modified>
  <cp:revision>74</cp:revision>
  <dc:subject/>
  <dc:title>Computer Concepts-Illustrated Introductory, Sixth Edition, Enhanced</dc:title>
</cp:coreProperties>
</file>