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33E5-5DA6-4DB1-A97C-EAF83961C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4112-F259-4688-BB51-0E0D50766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11EE-D3C1-43EE-BDBA-EF593D5F1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F524-6E84-4701-ACDA-9BC4A2BF1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97ED7-0865-41BB-BA26-30F68E8F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B5D4F-F36E-4F5C-BB55-9BE39975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AF33-8B13-45E6-A359-57CA49EB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CCDC0-0C32-4545-833B-E0A1C31C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A9E9B-DC97-4106-A551-9CB06366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93927-B00D-4132-9D17-2F5EDA9C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1A9ED-6267-40C3-9F0F-BBEE7EE5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6FDBC-918A-4F55-BB25-75AF2E0AE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97B9D-8096-4257-AADF-206D5041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2AFDD-ED58-4692-9D43-6D905E22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DC6A3-1044-4279-8130-D6E36DCF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0A3F5-C91D-49C4-8D19-E6A3C6E5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93C70-90D9-49EB-A6C0-C6D9D32A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462D-44C0-49D9-BEBF-626ECA0EF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62DE-DE11-490A-8E24-0D8753463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3C79-75F9-425C-B26E-7EF75FB58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5E0A-8DFC-43BA-ACF9-960DD97C2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8613-8DE2-4C12-8415-B51BD17DE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9D8B-E72A-460F-86E9-1C9F1F461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E4E2-F4FD-4133-8135-5D8FD148D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CDBB-62FF-4CDF-8A45-84E1E052F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1093680" cy="72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4496-EAE9-44F6-9A9E-2083B80515E0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"/>
          <p:cNvPicPr/>
          <p:nvPr/>
        </p:nvPicPr>
        <p:blipFill>
          <a:blip r:embed="rId4"/>
          <a:stretch/>
        </p:blipFill>
        <p:spPr>
          <a:xfrm>
            <a:off x="0" y="2057400"/>
            <a:ext cx="10666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-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E: 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orking with Picture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ight-click a picture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on the home page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Show Pictures Toolbar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shortcut menu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Picture 4" descr="TblE-02.bmp"/>
          <p:cNvPicPr/>
          <p:nvPr/>
        </p:nvPicPr>
        <p:blipFill>
          <a:blip r:embed="rId3"/>
          <a:stretch/>
        </p:blipFill>
        <p:spPr>
          <a:xfrm>
            <a:off x="2286000" y="2286000"/>
            <a:ext cx="551664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560" y="1600200"/>
            <a:ext cx="7391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To crop, 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Crop button 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on the Pictures toolba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Adjust the crop handles and press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[Enter]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4" descr="FigE-09.bmp"/>
          <p:cNvPicPr/>
          <p:nvPr/>
        </p:nvPicPr>
        <p:blipFill>
          <a:blip r:embed="rId4"/>
          <a:stretch/>
        </p:blipFill>
        <p:spPr>
          <a:xfrm>
            <a:off x="2895480" y="3124080"/>
            <a:ext cx="3962520" cy="30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600" y="152388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he Pictures toolba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Has many image editing tools, including: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Grayscal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Wash-ou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ota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Beveled edge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ake the time to experiment with the many editing tools available he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tting Wrapping Style and Margin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1523880"/>
            <a:ext cx="7391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ouble-click a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4" descr="FigE-11.bmp"/>
          <p:cNvPicPr/>
          <p:nvPr/>
        </p:nvPicPr>
        <p:blipFill>
          <a:blip r:embed="rId4"/>
          <a:stretch/>
        </p:blipFill>
        <p:spPr>
          <a:xfrm>
            <a:off x="2743200" y="2133720"/>
            <a:ext cx="4495680" cy="39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tting Wrapping Style and Margin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76160" y="1447560"/>
            <a:ext cx="335268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he Appearance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under Wrapping styl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just the picture’s margi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Content Placeholder 4" descr="FigE-12.bmp"/>
          <p:cNvPicPr/>
          <p:nvPr/>
        </p:nvPicPr>
        <p:blipFill>
          <a:blip r:embed="rId4"/>
          <a:stretch/>
        </p:blipFill>
        <p:spPr>
          <a:xfrm>
            <a:off x="5029200" y="1752480"/>
            <a:ext cx="411480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tting Wrapping Style and Margins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23880" y="14475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Wrapping Styl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Non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efault wrapping styl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Text does not flow around the picture, but starts at the bottom edg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splays the picture on the left side with text wrapping around it on the righ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splays the picture on the right side with text wrapping around it on the lef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etting Auto Thumbnail Option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71600" y="152388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ool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ge Editor Optio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uto Thumbnail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t list arrow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hoose setting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1295280" y="609588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9" name="Picture 4" descr="FigE-14.bmp"/>
          <p:cNvPicPr/>
          <p:nvPr/>
        </p:nvPicPr>
        <p:blipFill>
          <a:blip r:embed="rId5"/>
          <a:stretch/>
        </p:blipFill>
        <p:spPr>
          <a:xfrm>
            <a:off x="5334120" y="3581280"/>
            <a:ext cx="32400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Thumbnail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5280" y="19047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ictur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rom Fil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Navigate to the folder where you store your pictures, click on one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sert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ype a picture description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Alternate text field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Thumbnail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1447560"/>
            <a:ext cx="78487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Right-click the picture 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Auto Thumbnail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on the shortcut menu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hen click anywhere on the page outside the pictur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ave the pag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6" name="Picture 4" descr="FigE-15.bmp"/>
          <p:cNvPicPr/>
          <p:nvPr/>
        </p:nvPicPr>
        <p:blipFill>
          <a:blip r:embed="rId7"/>
          <a:stretch/>
        </p:blipFill>
        <p:spPr>
          <a:xfrm>
            <a:off x="4419720" y="29718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Thumbnail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523880"/>
            <a:ext cx="73911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humbnail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maller imag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ave space on the page and minimize download tim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95280" y="2438280"/>
            <a:ext cx="7391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nderstand Web graphic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sert a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ize and resample a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Edit a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Styling a Thumbnail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95280" y="12189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ouble-click a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thumbnail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ppearance tab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t the settings as you’d like them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3" name="Content Placeholder 4" descr="FigE-18.bmp"/>
          <p:cNvPicPr/>
          <p:nvPr/>
        </p:nvPicPr>
        <p:blipFill>
          <a:blip r:embed="rId5"/>
          <a:stretch/>
        </p:blipFill>
        <p:spPr>
          <a:xfrm>
            <a:off x="4343400" y="2895480"/>
            <a:ext cx="3797280" cy="33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2437920"/>
            <a:ext cx="739152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t wrapping style and margi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et Auto Thumbnail option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thumbnail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tyle a thumbnail pictur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Web Graphic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5280" y="137160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Image measurements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mensions of an image are its height and width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File size affects how long it takes the picture to display in a browse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Page download time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Amount of time it takes a page to load into a browse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Image file formats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JPEG, GIF, PNG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Web Graphic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7" name="Picture 5" descr="FigE-01.bmp"/>
          <p:cNvPicPr/>
          <p:nvPr/>
        </p:nvPicPr>
        <p:blipFill>
          <a:blip r:embed="rId1"/>
          <a:stretch/>
        </p:blipFill>
        <p:spPr>
          <a:xfrm>
            <a:off x="1828800" y="2133720"/>
            <a:ext cx="655956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FigE-02a.bmp"/>
          <p:cNvPicPr/>
          <p:nvPr/>
        </p:nvPicPr>
        <p:blipFill>
          <a:blip r:embed="rId2"/>
          <a:stretch/>
        </p:blipFill>
        <p:spPr>
          <a:xfrm>
            <a:off x="2057400" y="342900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FigE-02b.bmp"/>
          <p:cNvPicPr/>
          <p:nvPr/>
        </p:nvPicPr>
        <p:blipFill>
          <a:blip r:embed="rId3"/>
          <a:stretch/>
        </p:blipFill>
        <p:spPr>
          <a:xfrm>
            <a:off x="4495680" y="5105520"/>
            <a:ext cx="4114800" cy="8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Inser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71600" y="137160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Open a Web site in Expression Web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on the menu bar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oint to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Picture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From Fil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Navigate to the folder where you store your picture, select an image, then click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Insert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in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Alternate text field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type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a description of the pictur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3" name="Content Placeholder 4" descr="FigE-03.bmp"/>
          <p:cNvPicPr/>
          <p:nvPr/>
        </p:nvPicPr>
        <p:blipFill>
          <a:blip r:embed="rId6"/>
          <a:stretch/>
        </p:blipFill>
        <p:spPr>
          <a:xfrm>
            <a:off x="2362320" y="4495680"/>
            <a:ext cx="5816520" cy="17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Insert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5280" y="19047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ave button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n the Common toolba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7" name="Picture 4" descr="TblE-01.bmp"/>
          <p:cNvPicPr/>
          <p:nvPr/>
        </p:nvPicPr>
        <p:blipFill>
          <a:blip r:embed="rId2"/>
          <a:stretch/>
        </p:blipFill>
        <p:spPr>
          <a:xfrm>
            <a:off x="1447920" y="3352680"/>
            <a:ext cx="7419960" cy="14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Resizing and Resampl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1295280"/>
            <a:ext cx="73915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izing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hanging the height and width attributes in the &lt;img&gt; tag to make the image display differently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Resampling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emoves extra pixels, changing the dimensions and file size 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Improves clarity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ecreases download tim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Resizing and Resampling a Pictur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1447560"/>
            <a:ext cx="739152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a pictur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oint to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bottom-right corner resize handle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until the cursor chang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Press and hold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[Shift]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Drag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resize handle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 to adjust the picture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Picture Actions button list arrow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Resample Picture to Match Size option butt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4:07Z</dcterms:modified>
  <cp:revision>74</cp:revision>
  <dc:subject/>
  <dc:title>Computer Concepts-Illustrated Introductory, Sixth Edition, Enhanced</dc:title>
</cp:coreProperties>
</file>