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39AB-408B-41E2-B559-FA3A36DCD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D38F-A904-468B-81BA-21AAF4115A3F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4EDEF-17CE-4D69-87E8-220954B93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9E525-F6C6-48A5-947C-907E9EFFC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B216F-06F6-444E-A1DD-A3A442CC4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1536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522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80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1536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522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4887-9106-4D14-A5FB-4EB24E7A6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395C4-500D-4808-B4ED-3F3BB6BF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EA0D4-8411-4C27-9F7F-E0AF37EB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2CA02-BC0D-4D32-AC8E-04398AB4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9DC93-37B0-4044-9EFF-E712FA22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077B5-7039-4FB5-8088-FBB12519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90329-C452-4FA5-9262-FEA0F9A2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22F4D-D766-4E2E-A816-F2823476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D0987-C38B-4810-A837-BF9329934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3FE7A-3C6B-4530-95CB-8181B16C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06511-1E8B-4AF0-A5B9-F3D88D60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7089E-5321-4B51-90FE-D8C577A9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EAFF7-13EE-4323-8D45-9BDF8063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1536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52280" y="1225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80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1536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52280" y="3799440"/>
            <a:ext cx="24159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91043-077F-4093-89E5-6459C700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D3FF1-A4BC-45B2-BEE5-4786377D6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71016-123F-4ABE-BDE6-207628E72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26F51-DAAE-401B-9738-80AFED65A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BF712-B8FA-4408-9292-1385E337D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AF140-6C74-4560-AC00-6BC800039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23240" y="3799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701D2-CCFE-4B49-8E93-DB814BBF2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808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23240" y="1225440"/>
            <a:ext cx="3661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8080" y="3799440"/>
            <a:ext cx="750384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3D438-2E08-4EC2-9A53-C58DE3F8C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738720" indent="-318240">
              <a:spcBef>
                <a:spcPts val="18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2" marL="1054440" indent="-210240">
              <a:spcBef>
                <a:spcPts val="1800"/>
              </a:spcBef>
              <a:buClr>
                <a:srgbClr val="0394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3" marL="1472040" indent="-210240">
              <a:spcBef>
                <a:spcPts val="1800"/>
              </a:spcBef>
              <a:buClr>
                <a:srgbClr val="0394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4" marL="1892520" indent="-210240">
              <a:spcBef>
                <a:spcPts val="1800"/>
              </a:spcBef>
              <a:buClr>
                <a:srgbClr val="0394c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5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6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3716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icrosoft Expression Web - IllustratedMicrosoft Expression Web - Illus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26280" y="6248520"/>
            <a:ext cx="1231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6835-C77D-4DFC-973A-2822F476C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99072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0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"/>
          <p:cNvPicPr/>
          <p:nvPr/>
        </p:nvPicPr>
        <p:blipFill>
          <a:blip r:embed="rId2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78080" y="1225440"/>
            <a:ext cx="75038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738720" indent="-318240">
              <a:spcBef>
                <a:spcPts val="18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2" marL="1054440" indent="-210240">
              <a:spcBef>
                <a:spcPts val="1800"/>
              </a:spcBef>
              <a:buClr>
                <a:srgbClr val="0394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3" marL="1472040" indent="-210240">
              <a:spcBef>
                <a:spcPts val="1800"/>
              </a:spcBef>
              <a:buClr>
                <a:srgbClr val="0394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4" marL="1892520" indent="-210240">
              <a:spcBef>
                <a:spcPts val="1800"/>
              </a:spcBef>
              <a:buClr>
                <a:srgbClr val="0394c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5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6" marL="1892520" indent="-210240">
              <a:spcBef>
                <a:spcPts val="1800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6AC6-AF56-497A-B5E5-BB1832EEE1D0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4"/>
          <a:stretch/>
        </p:blipFill>
        <p:spPr>
          <a:xfrm>
            <a:off x="0" y="1981080"/>
            <a:ext cx="1093680" cy="75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ed0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20222"/>
                </a:solidFill>
                <a:latin typeface="Arial"/>
              </a:rPr>
              <a:t>Microsoft Expression Web-Illustrate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nit G:</a:t>
            </a:r>
            <a:br>
              <a:rPr sz="3200"/>
            </a:b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esigning Site Navigation</a:t>
            </a:r>
            <a:endParaRPr b="1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Interactive Butt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20" name="Content Placeholder 4" descr="FigG-04.bmp"/>
          <p:cNvPicPr/>
          <p:nvPr/>
        </p:nvPicPr>
        <p:blipFill>
          <a:blip r:embed="rId1"/>
          <a:stretch/>
        </p:blipFill>
        <p:spPr>
          <a:xfrm>
            <a:off x="2819520" y="1371600"/>
            <a:ext cx="4541760" cy="474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Interactive Butt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save your chang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Preview the page in a browser, point to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ome button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ome button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ose the browser window, then return to Expression We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Editing an Interactive Butt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Double-click the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Home button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, then click the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Font tab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Original Font Color list arrow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More Colors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, click in the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Value box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, select the text, press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[Delete]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, type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#E2CC7E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8" name="Picture 4" descr="FigG-05.bmp"/>
          <p:cNvPicPr/>
          <p:nvPr/>
        </p:nvPicPr>
        <p:blipFill>
          <a:blip r:embed="rId4"/>
          <a:stretch/>
        </p:blipFill>
        <p:spPr>
          <a:xfrm>
            <a:off x="2971800" y="3200400"/>
            <a:ext cx="4094280" cy="301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Editing an Interactive Butt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95280" y="1447560"/>
            <a:ext cx="32004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overed Font Color list arrow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More Colors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delete the text in the Value box, typ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#C9A62D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Image ta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2" name="Picture 4" descr="FigG-06.bmp"/>
          <p:cNvPicPr/>
          <p:nvPr/>
        </p:nvPicPr>
        <p:blipFill>
          <a:blip r:embed="rId5"/>
          <a:stretch/>
        </p:blipFill>
        <p:spPr>
          <a:xfrm>
            <a:off x="4495680" y="1600200"/>
            <a:ext cx="430704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Editing an Interactive Butt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94920" y="1447560"/>
            <a:ext cx="34290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Select the text in 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Width box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, press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[Delete]</a:t>
            </a: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, then typ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2800" spc="-1" strike="noStrike">
                <a:solidFill>
                  <a:srgbClr val="0394c1"/>
                </a:solidFill>
                <a:latin typeface="Arial"/>
              </a:rPr>
              <a:t>Make the button a GIF image and use a transparent background. option button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6" name="Picture 4" descr="FigG-07.bmp"/>
          <p:cNvPicPr/>
          <p:nvPr/>
        </p:nvPicPr>
        <p:blipFill>
          <a:blip r:embed="rId3"/>
          <a:stretch/>
        </p:blipFill>
        <p:spPr>
          <a:xfrm>
            <a:off x="4800600" y="1523880"/>
            <a:ext cx="408780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Editing an Interactive Butt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save your chang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in the Saved Embedded Files dialog box, preview the page in a browser, point to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ome button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ome button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ose the browser window, then return to Expression We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Navigation Bar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A set of related navigation links is known as a navigation bar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&lt;div#left_col&gt; 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list arrow on the quick tag selector bar, 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Select Tag Contents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Edit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 on the menu bar, then 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Click the Home button, press     , then press [Shift][Enter]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3" name="Picture 4" descr="arrow.jpg"/>
          <p:cNvPicPr/>
          <p:nvPr/>
        </p:nvPicPr>
        <p:blipFill>
          <a:blip r:embed="rId4"/>
          <a:stretch/>
        </p:blipFill>
        <p:spPr>
          <a:xfrm>
            <a:off x="5715000" y="4114800"/>
            <a:ext cx="31752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Navigation Bar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Edit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on the menu bar, then press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ast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Double-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bottom Home button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in the Interactive Buttons dialog box select Home in the Text field, typ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Menu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Brows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menu.htm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agai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Navigation Bar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95280" y="1294920"/>
            <a:ext cx="73915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Click to th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right of the Menu button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[Shift][Enter]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Edit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 on the menu bar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Paste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double-click th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bottom Home button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select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Home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 in the Text field, typ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Store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Browse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store.htm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 again</a:t>
            </a:r>
            <a:endParaRPr b="0" lang="en-US" sz="29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Click to th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right of the Store button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[Shift][Enter]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Edit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 on the menu bar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Paste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double-click th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bottom Home button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replace the text in the Text field with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Music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Browse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double-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music.htm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29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Navigation Bar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o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right of the Music button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[Shift][Enter]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Edit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on the menu bar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Past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double-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bottom Home button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replace the text i9n the Text field with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Reservations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Brows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double-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reservations.htm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95280" y="2285640"/>
            <a:ext cx="739152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Understand effective navigatio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reate an interactive butto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Edit an interactive butto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reate a navigation bar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Navigation Bar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54" name="Content Placeholder 4" descr="FigG-10.bmp"/>
          <p:cNvPicPr/>
          <p:nvPr/>
        </p:nvPicPr>
        <p:blipFill>
          <a:blip r:embed="rId1"/>
          <a:stretch/>
        </p:blipFill>
        <p:spPr>
          <a:xfrm>
            <a:off x="1523880" y="2133720"/>
            <a:ext cx="7391520" cy="34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 Navigation Bar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Double-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Reservations button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in the Interactive Buttons dialog box 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Font tab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in the Font-size list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save your chang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preview the pages in a browser, point to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tore button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tore button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ose the browser window, then return to Expression We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Adding a Navigation Bar</a:t>
            </a:r>
            <a:br>
              <a:rPr sz="3600"/>
            </a:b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o Site Pag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anywhere in the left_col div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point to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&lt;div#left_col&gt;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on the quick tag selector bar, 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&lt;div#left_col&gt; 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list arrow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elect Tag Content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2" name="Picture 4" descr="FigG-11.bmp"/>
          <p:cNvPicPr/>
          <p:nvPr/>
        </p:nvPicPr>
        <p:blipFill>
          <a:blip r:embed="rId3"/>
          <a:stretch/>
        </p:blipFill>
        <p:spPr>
          <a:xfrm>
            <a:off x="1905120" y="3581280"/>
            <a:ext cx="6781680" cy="262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Adding a Navigation Bar</a:t>
            </a:r>
            <a:br>
              <a:rPr sz="3600"/>
            </a:b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o Site Pag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Edit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 on the menu bar, then 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Open the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store page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, click in the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left_col div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Edit</a:t>
            </a: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 on the menu bar, then click </a:t>
            </a:r>
            <a:r>
              <a:rPr b="1" lang="en-US" sz="2400" spc="-1" strike="noStrike">
                <a:solidFill>
                  <a:srgbClr val="0394c1"/>
                </a:solidFill>
                <a:latin typeface="Arial"/>
              </a:rPr>
              <a:t>Paste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6" name="Picture 4" descr="FigG-12.bmp"/>
          <p:cNvPicPr/>
          <p:nvPr/>
        </p:nvPicPr>
        <p:blipFill>
          <a:blip r:embed="rId3"/>
          <a:stretch/>
        </p:blipFill>
        <p:spPr>
          <a:xfrm>
            <a:off x="1981080" y="2666880"/>
            <a:ext cx="6172200" cy="340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Adding a Navigation Bar</a:t>
            </a:r>
            <a:br>
              <a:rPr sz="3600"/>
            </a:b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o Site Pag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Open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contact pag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repeat step 3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Open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menu pag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repeat step 3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Open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music pag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repeat step 3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Open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reservations pag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repeat step 3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Adding a Navigation Bar</a:t>
            </a:r>
            <a:br>
              <a:rPr sz="3600"/>
            </a:b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o Site Pag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Save changes to all files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each time the Save Embedded Files dialog box opens, then preview the reservations page in a browser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ompare your screen to the figure on the following slid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Use the links in the navigation bar to view all the pages in the site, then leave the browser window ope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Adding a Navigation Bar</a:t>
            </a:r>
            <a:br>
              <a:rPr sz="3600"/>
            </a:b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to Site Pag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74" name="Content Placeholder 4" descr="FigG-13.bmp"/>
          <p:cNvPicPr/>
          <p:nvPr/>
        </p:nvPicPr>
        <p:blipFill>
          <a:blip r:embed="rId1"/>
          <a:stretch/>
        </p:blipFill>
        <p:spPr>
          <a:xfrm>
            <a:off x="1981080" y="1295280"/>
            <a:ext cx="6324840" cy="474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nderstanding Link Sty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394c1"/>
                </a:solidFill>
                <a:latin typeface="Arial"/>
              </a:rPr>
              <a:t>To understand link styles, you should be familiar with the following</a:t>
            </a: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Link state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2" marL="114624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Pseudo-class defines properties for a particular state of the element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394c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94c1"/>
                </a:solidFill>
                <a:latin typeface="Arial"/>
              </a:rPr>
              <a:t>a:link</a:t>
            </a:r>
            <a:endParaRPr b="0" lang="en-US" sz="2000" spc="-1" strike="noStrike">
              <a:solidFill>
                <a:srgbClr val="0394c1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394c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94c1"/>
                </a:solidFill>
                <a:latin typeface="Arial"/>
              </a:rPr>
              <a:t>a:visited</a:t>
            </a:r>
            <a:endParaRPr b="0" lang="en-US" sz="2000" spc="-1" strike="noStrike">
              <a:solidFill>
                <a:srgbClr val="0394c1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394c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94c1"/>
                </a:solidFill>
                <a:latin typeface="Arial"/>
              </a:rPr>
              <a:t>a:hover</a:t>
            </a:r>
            <a:endParaRPr b="0" lang="en-US" sz="2000" spc="-1" strike="noStrike">
              <a:solidFill>
                <a:srgbClr val="0394c1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394c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94c1"/>
                </a:solidFill>
                <a:latin typeface="Arial"/>
              </a:rPr>
              <a:t>a:active</a:t>
            </a:r>
            <a:endParaRPr b="0" lang="en-US" sz="2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nderstanding Link Sty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Guidelines for creating link styl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Leave links underlined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Differentiate between visited and unvisited links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Experiment with hover styles and colors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601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2" name="Picture 4" descr="TblG-01.bmp"/>
          <p:cNvPicPr/>
          <p:nvPr/>
        </p:nvPicPr>
        <p:blipFill>
          <a:blip r:embed="rId2"/>
          <a:stretch/>
        </p:blipFill>
        <p:spPr>
          <a:xfrm>
            <a:off x="1676520" y="3886200"/>
            <a:ext cx="708156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Link Sty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Close the browser window, return to Expression Web, make the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store page 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the active page, then click the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New Style button 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on the Manage Styles task pane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Selector list ar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row, 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a:link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, click the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Define in list arrow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Existing style sheet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, click the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URL list arrow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twstyles.css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In the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color box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, type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#757E34</a:t>
            </a:r>
            <a:r>
              <a:rPr b="0" lang="en-US" sz="3000" spc="-1" strike="noStrike">
                <a:solidFill>
                  <a:srgbClr val="0394c1"/>
                </a:solidFill>
                <a:latin typeface="Arial"/>
              </a:rPr>
              <a:t>, compare your screen to the figure on the following slide, then click </a:t>
            </a:r>
            <a:r>
              <a:rPr b="1" lang="en-US" sz="30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0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95280" y="2361960"/>
            <a:ext cx="739152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Add a navigation bar to site pag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Understand link styl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reate link styles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Link Sty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87" name="Content Placeholder 4" descr="FigG-15.bmp"/>
          <p:cNvPicPr/>
          <p:nvPr/>
        </p:nvPicPr>
        <p:blipFill>
          <a:blip r:embed="rId1"/>
          <a:stretch/>
        </p:blipFill>
        <p:spPr>
          <a:xfrm>
            <a:off x="2590920" y="1295280"/>
            <a:ext cx="4952880" cy="473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Link Sty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New Style button 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on the Manage Styles task pane, click th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Selector list arrow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a:visited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th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Define in list arrow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Existing style sheet</a:t>
            </a:r>
            <a:endParaRPr b="0" lang="en-US" sz="29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color box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typ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#BFC97C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29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New Style button 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on the Manage Styles task pane, click th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Selector List arrow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a:hover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click the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Define in list arrow</a:t>
            </a:r>
            <a:r>
              <a:rPr b="0" lang="en-US" sz="2900" spc="-1" strike="noStrike">
                <a:solidFill>
                  <a:srgbClr val="0394c1"/>
                </a:solidFill>
                <a:latin typeface="Arial"/>
              </a:rPr>
              <a:t>, then click </a:t>
            </a:r>
            <a:r>
              <a:rPr b="1" lang="en-US" sz="2900" spc="-1" strike="noStrike">
                <a:solidFill>
                  <a:srgbClr val="0394c1"/>
                </a:solidFill>
                <a:latin typeface="Arial"/>
              </a:rPr>
              <a:t>Existing Style Sheet</a:t>
            </a:r>
            <a:endParaRPr b="0" lang="en-US" sz="29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Link Sty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295280" y="1447560"/>
            <a:ext cx="289584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SzPct val="103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394c1"/>
                </a:solidFill>
                <a:latin typeface="Arial"/>
              </a:rPr>
              <a:t>Click in the </a:t>
            </a:r>
            <a:r>
              <a:rPr b="1" lang="en-US" sz="2500" spc="-1" strike="noStrike">
                <a:solidFill>
                  <a:srgbClr val="0394c1"/>
                </a:solidFill>
                <a:latin typeface="Arial"/>
              </a:rPr>
              <a:t>Color box</a:t>
            </a:r>
            <a:r>
              <a:rPr b="0" lang="en-US" sz="2500" spc="-1" strike="noStrike">
                <a:solidFill>
                  <a:srgbClr val="0394c1"/>
                </a:solidFill>
                <a:latin typeface="Arial"/>
              </a:rPr>
              <a:t>, type </a:t>
            </a:r>
            <a:r>
              <a:rPr b="1" lang="en-US" sz="2500" spc="-1" strike="noStrike">
                <a:solidFill>
                  <a:srgbClr val="0394c1"/>
                </a:solidFill>
                <a:latin typeface="Arial"/>
              </a:rPr>
              <a:t>#B1012A</a:t>
            </a:r>
            <a:r>
              <a:rPr b="0" lang="en-US" sz="2500" spc="-1" strike="noStrike">
                <a:solidFill>
                  <a:srgbClr val="0394c1"/>
                </a:solidFill>
                <a:latin typeface="Arial"/>
              </a:rPr>
              <a:t>, click the </a:t>
            </a:r>
            <a:r>
              <a:rPr b="1" lang="en-US" sz="2500" spc="-1" strike="noStrike">
                <a:solidFill>
                  <a:srgbClr val="0394c1"/>
                </a:solidFill>
                <a:latin typeface="Arial"/>
              </a:rPr>
              <a:t>overline check box</a:t>
            </a:r>
            <a:r>
              <a:rPr b="0" lang="en-US" sz="2500" spc="-1" strike="noStrike">
                <a:solidFill>
                  <a:srgbClr val="0394c1"/>
                </a:solidFill>
                <a:latin typeface="Arial"/>
              </a:rPr>
              <a:t> under text-decoration, click the </a:t>
            </a:r>
            <a:r>
              <a:rPr b="1" lang="en-US" sz="2500" spc="-1" strike="noStrike">
                <a:solidFill>
                  <a:srgbClr val="0394c1"/>
                </a:solidFill>
                <a:latin typeface="Arial"/>
              </a:rPr>
              <a:t>underline check box </a:t>
            </a:r>
            <a:r>
              <a:rPr b="0" lang="en-US" sz="2500" spc="-1" strike="noStrike">
                <a:solidFill>
                  <a:srgbClr val="0394c1"/>
                </a:solidFill>
                <a:latin typeface="Arial"/>
              </a:rPr>
              <a:t>under text-decoration, compare your screen to the figure, then click </a:t>
            </a:r>
            <a:r>
              <a:rPr b="1" lang="en-US" sz="25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25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5" name="Picture 4" descr="FigG-16.bmp"/>
          <p:cNvPicPr/>
          <p:nvPr/>
        </p:nvPicPr>
        <p:blipFill>
          <a:blip r:embed="rId2"/>
          <a:stretch/>
        </p:blipFill>
        <p:spPr>
          <a:xfrm>
            <a:off x="4191120" y="1523880"/>
            <a:ext cx="4620960" cy="441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Link Styles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Save changes to all files, preview the store page in the browser as shown in the figure on the following slide, point to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Museum of American Quilter’s Society link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ose the browser window, return to Expression Web, close the site, then exit Expression We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nderstanding Effective Navigati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To design effective navigation, it helps to understand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Guidelines for navigation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Types of navigation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  <a:p>
            <a:pPr lvl="2" marL="114624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2" marL="114624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2" marL="1146240" indent="-228600">
              <a:lnSpc>
                <a:spcPct val="80000"/>
              </a:lnSpc>
              <a:spcBef>
                <a:spcPts val="601"/>
              </a:spcBef>
              <a:buClr>
                <a:srgbClr val="0394c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94c1"/>
                </a:solidFill>
                <a:latin typeface="Arial"/>
              </a:rPr>
              <a:t>Related</a:t>
            </a:r>
            <a:endParaRPr b="0" lang="en-US" sz="2400" spc="-1" strike="noStrike">
              <a:solidFill>
                <a:srgbClr val="0394c1"/>
              </a:solidFill>
              <a:latin typeface="Arial"/>
            </a:endParaRPr>
          </a:p>
          <a:p>
            <a:pPr lvl="1" marL="803160" indent="-345960">
              <a:lnSpc>
                <a:spcPct val="80000"/>
              </a:lnSpc>
              <a:spcBef>
                <a:spcPts val="700"/>
              </a:spcBef>
              <a:buClr>
                <a:srgbClr val="d5e8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94c1"/>
                </a:solidFill>
                <a:latin typeface="Arial"/>
              </a:rPr>
              <a:t>Navigation elements</a:t>
            </a:r>
            <a:endParaRPr b="0" lang="en-US" sz="28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Understanding Effective Navigati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04" name="Content Placeholder 4" descr="FigG-01.bmp"/>
          <p:cNvPicPr/>
          <p:nvPr/>
        </p:nvPicPr>
        <p:blipFill>
          <a:blip r:embed="rId1"/>
          <a:stretch/>
        </p:blipFill>
        <p:spPr>
          <a:xfrm>
            <a:off x="2895480" y="1295280"/>
            <a:ext cx="4543560" cy="495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Interactive Butt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94920" y="1447560"/>
            <a:ext cx="35053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Launch Expression Web, open a site, open the home page, click in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left_col div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Insert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on the menu bar, then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Interactive Button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9" name="Picture 4" descr="FigG-02.bmp"/>
          <p:cNvPicPr/>
          <p:nvPr/>
        </p:nvPicPr>
        <p:blipFill>
          <a:blip r:embed="rId4"/>
          <a:stretch/>
        </p:blipFill>
        <p:spPr>
          <a:xfrm>
            <a:off x="4876920" y="1752480"/>
            <a:ext cx="401472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Interactive Butt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In the Buttons list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Braided Column 4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select the text in the Text field, press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[Spacebar]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typ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om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Browse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next to the Link field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default.htm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OK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Interactive Butt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pic>
        <p:nvPicPr>
          <p:cNvPr id="114" name="Content Placeholder 4" descr="FigG-03.bmp"/>
          <p:cNvPicPr/>
          <p:nvPr/>
        </p:nvPicPr>
        <p:blipFill>
          <a:blip r:embed="rId1"/>
          <a:stretch/>
        </p:blipFill>
        <p:spPr>
          <a:xfrm>
            <a:off x="2743200" y="1295280"/>
            <a:ext cx="4648320" cy="485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394c1"/>
                </a:solidFill>
                <a:latin typeface="Arial"/>
              </a:rPr>
              <a:t>Creating an Interactive Button</a:t>
            </a:r>
            <a:endParaRPr b="1" lang="en-US" sz="36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95280" y="1447560"/>
            <a:ext cx="7391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Font tab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Arial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elvetica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sans-serif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in the Font list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Bold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in the Font Style list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 in the Size list, click the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Horizontal Alignment list arrow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click </a:t>
            </a:r>
            <a:r>
              <a:rPr b="1" lang="en-US" sz="3200" spc="-1" strike="noStrike">
                <a:solidFill>
                  <a:srgbClr val="0394c1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394c1"/>
                </a:solidFill>
                <a:latin typeface="Arial"/>
              </a:rPr>
              <a:t>, then compare your screen to the figure on the following slide</a:t>
            </a:r>
            <a:endParaRPr b="0" lang="en-US" sz="3200" spc="-1" strike="noStrike">
              <a:solidFill>
                <a:srgbClr val="0394c1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2701800" y="6248520"/>
            <a:ext cx="45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99"/>
                </a:solidFill>
                <a:latin typeface="Times New Roman"/>
              </a:rPr>
              <a:t>Microsoft Expression Web - Illustrated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7:09:54Z</dcterms:created>
  <dc:creator/>
  <dc:description/>
  <dc:language>en-US</dc:language>
  <cp:lastModifiedBy>Thomson</cp:lastModifiedBy>
  <dcterms:modified xsi:type="dcterms:W3CDTF">2008-07-24T20:14:36Z</dcterms:modified>
  <cp:revision>83</cp:revision>
  <dc:subject/>
  <dc:title>Computer Concepts-Illustrated Introductory, Sixth Edition, Enhanced</dc:title>
</cp:coreProperties>
</file>