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F1B3-DD1B-4E2D-A73E-032281F3D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9C13-E632-49C7-A53B-35DB5C1E3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E492A-2F75-4299-8996-17EA2188F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6671-2B51-4CCF-9030-1D3092DA3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54131-26AB-448D-BDC1-02B54EE9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5F3E1-140E-4D18-B7D3-A83188EE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19DB0-1919-4207-8723-3E94D0D1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F7C3F-85C8-4D3F-B4EC-E6AEF309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9DB51-5DC6-4E8C-A70C-0470CB11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45ABF-9474-4BCC-ABBE-14E73E06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51DAD-EE21-482D-B384-32C4412D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EB59-60C0-4583-AA6B-99C941926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9D1B5-A13E-4276-961A-25EE2624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0205-721F-4B84-BBDF-6BC18E26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2718D-8891-4454-BA51-32836DA2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3F19D-9178-4732-BD89-142FB7BF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9B66F-C1B4-44F6-B123-CF2091C2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DBCA2-776D-4B66-873E-31E48AE62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4458-FCA1-4C23-8720-7D19DD8BC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A25C-4615-4151-BE52-B62B1D138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D5FF-4335-4868-B795-4F8DFD10B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7868-3C3F-4321-BCF0-B64CA9892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EECF-0319-4294-9CEA-0A5D0EB15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8F94B-DF89-4DE9-8B59-8A2CAB98D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299-7A9B-41B2-9B15-B6940238C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9072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6D2-6EE6-4486-8762-EC40DF9D9E78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1981080"/>
            <a:ext cx="1062000" cy="74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-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H: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esting and Publishing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Your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s View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t the bottom of the Web Site tab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default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Folder List task pan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6" name="Picture 4" descr="FigH-04.bmp"/>
          <p:cNvPicPr/>
          <p:nvPr/>
        </p:nvPicPr>
        <p:blipFill>
          <a:blip r:embed="rId3"/>
          <a:stretch/>
        </p:blipFill>
        <p:spPr>
          <a:xfrm>
            <a:off x="2895480" y="30481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in any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blank area of the Web Site tab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Show Page Titl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0" name="Picture 4" descr="FigH-05.bmp"/>
          <p:cNvPicPr/>
          <p:nvPr/>
        </p:nvPicPr>
        <p:blipFill>
          <a:blip r:embed="rId2"/>
          <a:stretch/>
        </p:blipFill>
        <p:spPr>
          <a:xfrm>
            <a:off x="2438280" y="2133720"/>
            <a:ext cx="528336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95280" y="1600200"/>
            <a:ext cx="73915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Right-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contact.htm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Properties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Contact ____ 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in the Title box to replace the highlighted text, then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Right-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menu.htm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Properties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type a title in the Title box to replace the highlighted text, then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5280" y="19047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usic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ype a title in the Title box to replace the highlighted text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tore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ype a third title in the Title box to replace the highlighted text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371240"/>
            <a:ext cx="73915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in any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lank area of the Web Site tab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how Page Title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right-click in any blank area of the Web Site tab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how Page Titles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o turn off this setting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31" name="Content Placeholder 4" descr="FigH-06.bmp"/>
          <p:cNvPicPr/>
          <p:nvPr/>
        </p:nvPicPr>
        <p:blipFill>
          <a:blip r:embed="rId1"/>
          <a:stretch/>
        </p:blipFill>
        <p:spPr>
          <a:xfrm>
            <a:off x="1828800" y="167652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4"/>
          <p:cNvSpPr/>
          <p:nvPr/>
        </p:nvSpPr>
        <p:spPr>
          <a:xfrm>
            <a:off x="2666880" y="64008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3880" y="1295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yperlinks views showing page titl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ypes of disabiliti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Visua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Hearing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ognitiv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ssistive technologies are used by people with disabilities to use a computer and navigate the Interne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Guidelines for accessibility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WCAG (Web Content Accessibility Guidelines)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Section 508 guideline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38" name="Content Placeholder 4" descr="Table H-2.jpg"/>
          <p:cNvPicPr/>
          <p:nvPr/>
        </p:nvPicPr>
        <p:blipFill>
          <a:blip r:embed="rId1"/>
          <a:stretch/>
        </p:blipFill>
        <p:spPr>
          <a:xfrm>
            <a:off x="1523880" y="1828800"/>
            <a:ext cx="7431120" cy="32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Footer Placeholder 4"/>
          <p:cNvSpPr/>
          <p:nvPr/>
        </p:nvSpPr>
        <p:spPr>
          <a:xfrm>
            <a:off x="2666880" y="64008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41" name="Content Placeholder 4" descr="FigH-07.bmp"/>
          <p:cNvPicPr/>
          <p:nvPr/>
        </p:nvPicPr>
        <p:blipFill>
          <a:blip r:embed="rId1"/>
          <a:stretch/>
        </p:blipFill>
        <p:spPr>
          <a:xfrm>
            <a:off x="2057400" y="1447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lders View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n the bottom of the Web site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ontact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Web site tab to select i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ccessibility Report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Verify or select options in the Accessibility Checker dialog box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hec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8960" y="1523880"/>
            <a:ext cx="73911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View and edit page tit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nderstand accessibility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est accessibility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47" name="Content Placeholder 4" descr="FigH-08.bmp"/>
          <p:cNvPicPr/>
          <p:nvPr/>
        </p:nvPicPr>
        <p:blipFill>
          <a:blip r:embed="rId1"/>
          <a:stretch/>
        </p:blipFill>
        <p:spPr>
          <a:xfrm>
            <a:off x="2286000" y="2362320"/>
            <a:ext cx="5526000" cy="273024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50" name="Content Placeholder 4" descr="FigH-09.bmp"/>
          <p:cNvPicPr/>
          <p:nvPr/>
        </p:nvPicPr>
        <p:blipFill>
          <a:blip r:embed="rId1"/>
          <a:stretch/>
        </p:blipFill>
        <p:spPr>
          <a:xfrm>
            <a:off x="1905120" y="1752480"/>
            <a:ext cx="6197400" cy="464832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4"/>
          <p:cNvSpPr/>
          <p:nvPr/>
        </p:nvSpPr>
        <p:spPr>
          <a:xfrm>
            <a:off x="2743200" y="64008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600200" y="1295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 results of Accessibility repor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95280" y="1371240"/>
            <a:ext cx="73915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o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cond line of the repor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6" name="Picture 4" descr="FigH-10.bmp"/>
          <p:cNvPicPr/>
          <p:nvPr/>
        </p:nvPicPr>
        <p:blipFill>
          <a:blip r:embed="rId2"/>
          <a:stretch/>
        </p:blipFill>
        <p:spPr>
          <a:xfrm>
            <a:off x="2438280" y="2209680"/>
            <a:ext cx="5384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19047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ose the browser window, then return to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Generate HTML Report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il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in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in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Print submenu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lose Window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n the Accessibility task pan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Web Server Typ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95280" y="1523880"/>
            <a:ext cx="73915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Expression Web support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rontPage Server Extension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WebDAV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ile System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Web Server Typ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64" name="Content Placeholder 4" descr="FigH-11.bmp"/>
          <p:cNvPicPr/>
          <p:nvPr/>
        </p:nvPicPr>
        <p:blipFill>
          <a:blip r:embed="rId1"/>
          <a:stretch/>
        </p:blipFill>
        <p:spPr>
          <a:xfrm>
            <a:off x="2743200" y="1447920"/>
            <a:ext cx="4560840" cy="472428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Up and Connecting to a Remote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71600" y="13712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o set up a remot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Gather information about your remote si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Open the Remote Site Properties dialog box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nter your hosting account information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nter your user name and passwor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Verify that you are connecte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Up and Connecting to a Remote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70" name="Content Placeholder 4" descr="FigH-12.bmp"/>
          <p:cNvPicPr/>
          <p:nvPr/>
        </p:nvPicPr>
        <p:blipFill>
          <a:blip r:embed="rId1"/>
          <a:stretch/>
        </p:blipFill>
        <p:spPr>
          <a:xfrm>
            <a:off x="2057400" y="1447920"/>
            <a:ext cx="6197760" cy="464796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Up and Connecting to a Remote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4" name="Content Placeholder 6" descr="FigH-13.bmp"/>
          <p:cNvPicPr/>
          <p:nvPr/>
        </p:nvPicPr>
        <p:blipFill>
          <a:blip r:embed="rId1"/>
          <a:stretch/>
        </p:blipFill>
        <p:spPr>
          <a:xfrm>
            <a:off x="2666880" y="1600200"/>
            <a:ext cx="48625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Up and Connecting to a Remote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76" name="Content Placeholder 4" descr="FigH-14.bmp"/>
          <p:cNvPicPr/>
          <p:nvPr/>
        </p:nvPicPr>
        <p:blipFill>
          <a:blip r:embed="rId1"/>
          <a:stretch/>
        </p:blipFill>
        <p:spPr>
          <a:xfrm>
            <a:off x="2057400" y="137160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1447560"/>
            <a:ext cx="739152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Understand Web server types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Set up and connect to a remote Web site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Publish a Web site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ublishing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95280" y="144756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o publish your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oose a publishing opti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ocal to remo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rom remote to loca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Synchroniz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ublish your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Verify that your site was publishe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ublishing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82" name="Content Placeholder 4" descr="FigH-16.bmp"/>
          <p:cNvPicPr/>
          <p:nvPr/>
        </p:nvPicPr>
        <p:blipFill>
          <a:blip r:embed="rId1"/>
          <a:stretch/>
        </p:blipFill>
        <p:spPr>
          <a:xfrm>
            <a:off x="1981080" y="1828800"/>
            <a:ext cx="5994360" cy="4495680"/>
          </a:xfrm>
          <a:prstGeom prst="rect">
            <a:avLst/>
          </a:prstGeom>
          <a:ln w="0">
            <a:noFill/>
          </a:ln>
        </p:spPr>
      </p:pic>
      <p:sp>
        <p:nvSpPr>
          <p:cNvPr id="183" name="Footer Placeholder 4"/>
          <p:cNvSpPr/>
          <p:nvPr/>
        </p:nvSpPr>
        <p:spPr>
          <a:xfrm>
            <a:off x="2666880" y="64008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523880" y="1295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mote Web Site view after publishing fil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ublishing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86" name="Content Placeholder 4" descr="FigH-17.bmp"/>
          <p:cNvPicPr/>
          <p:nvPr/>
        </p:nvPicPr>
        <p:blipFill>
          <a:blip r:embed="rId1"/>
          <a:stretch/>
        </p:blipFill>
        <p:spPr>
          <a:xfrm>
            <a:off x="1447920" y="1752480"/>
            <a:ext cx="7391160" cy="3673440"/>
          </a:xfrm>
          <a:prstGeom prst="rect">
            <a:avLst/>
          </a:prstGeom>
          <a:ln w="0">
            <a:noFill/>
          </a:ln>
        </p:spPr>
      </p:pic>
      <p:sp>
        <p:nvSpPr>
          <p:cNvPr id="18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5280" y="22856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Launch Expression Web, then open the site you are working 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ports View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t the bottom of the Web Site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7" name="Content Placeholder 5" descr="FigH-01.bmp"/>
          <p:cNvPicPr/>
          <p:nvPr/>
        </p:nvPicPr>
        <p:blipFill>
          <a:blip r:embed="rId1"/>
          <a:stretch/>
        </p:blipFill>
        <p:spPr>
          <a:xfrm>
            <a:off x="20574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99" name="Content Placeholder 4" descr="TblH-01.bmp"/>
          <p:cNvPicPr/>
          <p:nvPr/>
        </p:nvPicPr>
        <p:blipFill>
          <a:blip r:embed="rId1"/>
          <a:stretch/>
        </p:blipFill>
        <p:spPr>
          <a:xfrm>
            <a:off x="1371600" y="2286000"/>
            <a:ext cx="74120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Footer Placeholder 3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44792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ports available in the Reports Vie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95280" y="1371240"/>
            <a:ext cx="73915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Unverified hyperlinks 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5" name="Picture 4" descr="FigH-02.bmp"/>
          <p:cNvPicPr/>
          <p:nvPr/>
        </p:nvPicPr>
        <p:blipFill>
          <a:blip r:embed="rId3"/>
          <a:stretch/>
        </p:blipFill>
        <p:spPr>
          <a:xfrm>
            <a:off x="2209680" y="1905120"/>
            <a:ext cx="55882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9" name="Picture 4" descr="FigH-03.bmp"/>
          <p:cNvPicPr/>
          <p:nvPr/>
        </p:nvPicPr>
        <p:blipFill>
          <a:blip r:embed="rId3"/>
          <a:stretch/>
        </p:blipFill>
        <p:spPr>
          <a:xfrm>
            <a:off x="2438280" y="1981080"/>
            <a:ext cx="5384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95280" y="22856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s list arrow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ite Summary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4:46Z</dcterms:modified>
  <cp:revision>90</cp:revision>
  <dc:subject/>
  <dc:title>Computer Concepts-Illustrated Introductory, Sixth Edition, Enhanced</dc:title>
</cp:coreProperties>
</file>