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wmf" ContentType="image/x-wmf"/>
  <Override PartName="/ppt/media/image3.wmf" ContentType="image/x-wmf"/>
  <Override PartName="/ppt/media/image2.wmf" ContentType="image/x-wmf"/>
  <Override PartName="/ppt/media/image26.png" ContentType="image/png"/>
  <Override PartName="/ppt/media/image14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FD635-8647-4144-B126-3B69BD634E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8080" y="3799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F7E4D-35D5-455F-A4DF-49B34456C7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2324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5D1C0-0176-4429-B92A-0A8492FC53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1536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5228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808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1536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5228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43771-6A8B-4282-AE07-2F7109CCE8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A0AC5-4B42-4F26-A83F-11C7C97D6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79113-2B73-464E-A217-14181A9C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E9A8D-3000-47F9-A3B6-4057CF71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B48E8-D442-4D1E-9639-49AE9CBB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A428E-9005-4433-ACB9-2364625B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95280" y="-36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21A9C-4289-4125-9202-4C1E9111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43096-4A45-4C81-8711-DD944B57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8F94F-0581-4F34-8C8D-675992ACBF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2324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7384C-6AE5-4D5A-81FD-6F6277D4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0AE83-995D-4AEF-B86F-C2AF12A6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8080" y="3799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7458B-353E-439C-8A26-6AD5CEC3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2324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D1F6F-CD97-4460-9011-13AEAA410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1536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5228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808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1536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5228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83A2F-F1F5-499A-BC2E-AF4C0324E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92533-EC08-4296-B111-A1C4CFEF33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F46B6-331E-4E49-AAE5-0A61C1995A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FD771-B7D3-42BD-9DBC-E0418F9A1C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95280" y="-36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DA596-133D-440F-A105-AC40319C83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AD8E5-26F4-43DF-BB8C-DD75ED5C57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2324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DC76B-2C03-432E-9D25-A1F7EAFF8B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CB25F-E779-4E6E-AE8D-E2A8F69E59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1" marL="738720" indent="-318240">
              <a:spcBef>
                <a:spcPts val="18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2" marL="1054440" indent="-210240">
              <a:spcBef>
                <a:spcPts val="1800"/>
              </a:spcBef>
              <a:buClr>
                <a:srgbClr val="0394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3" marL="1472040" indent="-210240">
              <a:spcBef>
                <a:spcPts val="1800"/>
              </a:spcBef>
              <a:buClr>
                <a:srgbClr val="0394c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4" marL="1892520" indent="-210240">
              <a:spcBef>
                <a:spcPts val="1800"/>
              </a:spcBef>
              <a:buClr>
                <a:srgbClr val="0394c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5" marL="1892520" indent="-210240">
              <a:spcBef>
                <a:spcPts val="1800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6" marL="1892520" indent="-210240">
              <a:spcBef>
                <a:spcPts val="1800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3716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icrosoft Expression Web - IllustratedMicrosoft Expression Web - Illust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26280" y="6248520"/>
            <a:ext cx="1231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4A99-97E6-4268-9A9F-90B0C287A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99072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01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"/>
          <p:cNvPicPr/>
          <p:nvPr/>
        </p:nvPicPr>
        <p:blipFill>
          <a:blip r:embed="rId2"/>
          <a:stretch/>
        </p:blipFill>
        <p:spPr>
          <a:xfrm>
            <a:off x="0" y="2743200"/>
            <a:ext cx="9144000" cy="4114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1" marL="738720" indent="-318240">
              <a:spcBef>
                <a:spcPts val="18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2" marL="1054440" indent="-210240">
              <a:spcBef>
                <a:spcPts val="1800"/>
              </a:spcBef>
              <a:buClr>
                <a:srgbClr val="0394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3" marL="1472040" indent="-210240">
              <a:spcBef>
                <a:spcPts val="1800"/>
              </a:spcBef>
              <a:buClr>
                <a:srgbClr val="0394c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4" marL="1892520" indent="-210240">
              <a:spcBef>
                <a:spcPts val="1800"/>
              </a:spcBef>
              <a:buClr>
                <a:srgbClr val="0394c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5" marL="1892520" indent="-210240">
              <a:spcBef>
                <a:spcPts val="1800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6" marL="1892520" indent="-210240">
              <a:spcBef>
                <a:spcPts val="1800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AFF5-D70C-4F33-AE35-5CB63C787402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8" descr=""/>
          <p:cNvPicPr/>
          <p:nvPr/>
        </p:nvPicPr>
        <p:blipFill>
          <a:blip r:embed="rId4"/>
          <a:stretch/>
        </p:blipFill>
        <p:spPr>
          <a:xfrm>
            <a:off x="0" y="1981080"/>
            <a:ext cx="1062000" cy="749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01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20222"/>
                </a:solidFill>
                <a:latin typeface="Arial"/>
              </a:rPr>
              <a:t>Microsoft Expression Web-Illustrated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Unit H: </a:t>
            </a: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esting and Publishing </a:t>
            </a: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Your Web Site</a:t>
            </a:r>
            <a:endParaRPr b="1" lang="en-US" sz="3200" spc="-1" strike="noStrike">
              <a:solidFill>
                <a:srgbClr val="0394c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Viewing and Editing Page Titl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295280" y="1294920"/>
            <a:ext cx="739152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Hyperlinks View button 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at the bottom of the Web Site tab, then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default.htm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 in the Folder List task pan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6" name="Picture 4" descr="FigH-04.bmp"/>
          <p:cNvPicPr/>
          <p:nvPr/>
        </p:nvPicPr>
        <p:blipFill>
          <a:blip r:embed="rId3"/>
          <a:stretch/>
        </p:blipFill>
        <p:spPr>
          <a:xfrm>
            <a:off x="2895480" y="304812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Viewing and Editing Page Titl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95280" y="1294920"/>
            <a:ext cx="739152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Right-click in any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blank area of the Web Site tab</a:t>
            </a: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, then click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Show Page Titles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0" name="Picture 4" descr="FigH-05.bmp"/>
          <p:cNvPicPr/>
          <p:nvPr/>
        </p:nvPicPr>
        <p:blipFill>
          <a:blip r:embed="rId2"/>
          <a:stretch/>
        </p:blipFill>
        <p:spPr>
          <a:xfrm>
            <a:off x="2438280" y="2133720"/>
            <a:ext cx="528336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Viewing and Editing Page Titl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295280" y="1600200"/>
            <a:ext cx="739152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Right-click </a:t>
            </a:r>
            <a:r>
              <a:rPr b="1" lang="en-US" sz="3000" spc="-1" strike="noStrike">
                <a:solidFill>
                  <a:srgbClr val="0394c1"/>
                </a:solidFill>
                <a:latin typeface="Arial"/>
              </a:rPr>
              <a:t>contact.htm</a:t>
            </a: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3000" spc="-1" strike="noStrike">
                <a:solidFill>
                  <a:srgbClr val="0394c1"/>
                </a:solidFill>
                <a:latin typeface="Arial"/>
              </a:rPr>
              <a:t>Properties</a:t>
            </a: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, type </a:t>
            </a:r>
            <a:r>
              <a:rPr b="1" lang="en-US" sz="3000" spc="-1" strike="noStrike">
                <a:solidFill>
                  <a:srgbClr val="0394c1"/>
                </a:solidFill>
                <a:latin typeface="Arial"/>
              </a:rPr>
              <a:t>Contact ____ </a:t>
            </a: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in the Title box to replace the highlighted text, then click </a:t>
            </a:r>
            <a:r>
              <a:rPr b="1" lang="en-US" sz="3000" spc="-1" strike="noStrike">
                <a:solidFill>
                  <a:srgbClr val="0394c1"/>
                </a:solidFill>
                <a:latin typeface="Arial"/>
              </a:rPr>
              <a:t>OK</a:t>
            </a:r>
            <a:endParaRPr b="0" lang="en-US" sz="30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Right-click </a:t>
            </a:r>
            <a:r>
              <a:rPr b="1" lang="en-US" sz="3000" spc="-1" strike="noStrike">
                <a:solidFill>
                  <a:srgbClr val="0394c1"/>
                </a:solidFill>
                <a:latin typeface="Arial"/>
              </a:rPr>
              <a:t>menu.htm</a:t>
            </a: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3000" spc="-1" strike="noStrike">
                <a:solidFill>
                  <a:srgbClr val="0394c1"/>
                </a:solidFill>
                <a:latin typeface="Arial"/>
              </a:rPr>
              <a:t>Properties</a:t>
            </a: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, type a title in the Title box to replace the highlighted text, then click </a:t>
            </a:r>
            <a:r>
              <a:rPr b="1" lang="en-US" sz="3000" spc="-1" strike="noStrike">
                <a:solidFill>
                  <a:srgbClr val="0394c1"/>
                </a:solidFill>
                <a:latin typeface="Arial"/>
              </a:rPr>
              <a:t>OK</a:t>
            </a:r>
            <a:endParaRPr b="0" lang="en-US" sz="30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Viewing and Editing Page Titl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295280" y="1904760"/>
            <a:ext cx="739152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Right-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music.htm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Properties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type a title in the Title box to replace the highlighted text, then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OK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Right-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store.htm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Properties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type a third title in the Title box to replace the highlighted text, then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OK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Viewing and Editing Page Titl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295280" y="1371240"/>
            <a:ext cx="739152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Right-click in any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blank area of the Web Site tab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Show Page Titles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right-click in any blank area of the Web Site tab, then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Show Page Titles 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to turn off this setting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Viewing and Editing Page Titl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pic>
        <p:nvPicPr>
          <p:cNvPr id="131" name="Content Placeholder 4" descr="FigH-06.bmp"/>
          <p:cNvPicPr/>
          <p:nvPr/>
        </p:nvPicPr>
        <p:blipFill>
          <a:blip r:embed="rId1"/>
          <a:stretch/>
        </p:blipFill>
        <p:spPr>
          <a:xfrm>
            <a:off x="1828800" y="1676520"/>
            <a:ext cx="6299280" cy="4724280"/>
          </a:xfrm>
          <a:prstGeom prst="rect">
            <a:avLst/>
          </a:prstGeom>
          <a:ln w="0">
            <a:noFill/>
          </a:ln>
        </p:spPr>
      </p:pic>
      <p:sp>
        <p:nvSpPr>
          <p:cNvPr id="132" name="Footer Placeholder 4"/>
          <p:cNvSpPr/>
          <p:nvPr/>
        </p:nvSpPr>
        <p:spPr>
          <a:xfrm>
            <a:off x="2666880" y="640080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523880" y="129528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Hyperlinks views showing page title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Understanding Accessibility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Types of disabilitie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Visual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Hearing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Motor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Cognitive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Assistive technologies are used by people with disabilities to use a computer and navigate the Internet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Guidelines for accessibility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WCAG (Web Content Accessibility Guidelines)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Section 508 guidelines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Understanding Accessibility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pic>
        <p:nvPicPr>
          <p:cNvPr id="138" name="Content Placeholder 4" descr="Table H-2.jpg"/>
          <p:cNvPicPr/>
          <p:nvPr/>
        </p:nvPicPr>
        <p:blipFill>
          <a:blip r:embed="rId1"/>
          <a:stretch/>
        </p:blipFill>
        <p:spPr>
          <a:xfrm>
            <a:off x="1523880" y="1828800"/>
            <a:ext cx="7431120" cy="329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9" name="Footer Placeholder 4"/>
          <p:cNvSpPr/>
          <p:nvPr/>
        </p:nvSpPr>
        <p:spPr>
          <a:xfrm>
            <a:off x="2666880" y="640080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Understanding Accessibility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pic>
        <p:nvPicPr>
          <p:cNvPr id="141" name="Content Placeholder 4" descr="FigH-07.bmp"/>
          <p:cNvPicPr/>
          <p:nvPr/>
        </p:nvPicPr>
        <p:blipFill>
          <a:blip r:embed="rId1"/>
          <a:stretch/>
        </p:blipFill>
        <p:spPr>
          <a:xfrm>
            <a:off x="2057400" y="1447920"/>
            <a:ext cx="6324480" cy="4743360"/>
          </a:xfrm>
          <a:prstGeom prst="rect">
            <a:avLst/>
          </a:prstGeom>
          <a:ln w="0">
            <a:noFill/>
          </a:ln>
        </p:spPr>
      </p:pic>
      <p:sp>
        <p:nvSpPr>
          <p:cNvPr id="142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Testing Accessibility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Folders View button 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on the bottom of the Web site tab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contact.htm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 in the Web site tab to select it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Tools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 on the menu bar, then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Accessibility Report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Verify or select options in the Accessibility Checker dialog box, then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Check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218960" y="1523880"/>
            <a:ext cx="739116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Verify Hyperlink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View and edit page title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Understand accessibility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Test accessibility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Testing Accessibility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pic>
        <p:nvPicPr>
          <p:cNvPr id="147" name="Content Placeholder 4" descr="FigH-08.bmp"/>
          <p:cNvPicPr/>
          <p:nvPr/>
        </p:nvPicPr>
        <p:blipFill>
          <a:blip r:embed="rId1"/>
          <a:stretch/>
        </p:blipFill>
        <p:spPr>
          <a:xfrm>
            <a:off x="2286000" y="2362320"/>
            <a:ext cx="5526000" cy="2730240"/>
          </a:xfrm>
          <a:prstGeom prst="rect">
            <a:avLst/>
          </a:prstGeom>
          <a:ln w="0">
            <a:noFill/>
          </a:ln>
        </p:spPr>
      </p:pic>
      <p:sp>
        <p:nvSpPr>
          <p:cNvPr id="148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Testing Accessibility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pic>
        <p:nvPicPr>
          <p:cNvPr id="150" name="Content Placeholder 4" descr="FigH-09.bmp"/>
          <p:cNvPicPr/>
          <p:nvPr/>
        </p:nvPicPr>
        <p:blipFill>
          <a:blip r:embed="rId1"/>
          <a:stretch/>
        </p:blipFill>
        <p:spPr>
          <a:xfrm>
            <a:off x="1905120" y="1752480"/>
            <a:ext cx="6197400" cy="4648320"/>
          </a:xfrm>
          <a:prstGeom prst="rect">
            <a:avLst/>
          </a:prstGeom>
          <a:ln w="0">
            <a:noFill/>
          </a:ln>
        </p:spPr>
      </p:pic>
      <p:sp>
        <p:nvSpPr>
          <p:cNvPr id="151" name="Footer Placeholder 4"/>
          <p:cNvSpPr/>
          <p:nvPr/>
        </p:nvSpPr>
        <p:spPr>
          <a:xfrm>
            <a:off x="2743200" y="640080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600200" y="12952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The results of Accessibility report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Testing Accessibility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295280" y="1371240"/>
            <a:ext cx="739152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Right-click on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second line of the report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then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Learn Mor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56" name="Picture 4" descr="FigH-10.bmp"/>
          <p:cNvPicPr/>
          <p:nvPr/>
        </p:nvPicPr>
        <p:blipFill>
          <a:blip r:embed="rId2"/>
          <a:stretch/>
        </p:blipFill>
        <p:spPr>
          <a:xfrm>
            <a:off x="2438280" y="2209680"/>
            <a:ext cx="538488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Testing Accessibility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295280" y="1904760"/>
            <a:ext cx="739152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ose the browser window, then return to Expression Web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Generate HTML Report button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File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 on the menu bar, point to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Print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Print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 on the Print submenu, then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OK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Close Window button 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on the Accessibility task pan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Understanding Web Server Typ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295280" y="1523880"/>
            <a:ext cx="739152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Expression Web support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FrontPage Server Extensions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WebDAV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File System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Understanding Web Server Typ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pic>
        <p:nvPicPr>
          <p:cNvPr id="164" name="Content Placeholder 4" descr="FigH-11.bmp"/>
          <p:cNvPicPr/>
          <p:nvPr/>
        </p:nvPicPr>
        <p:blipFill>
          <a:blip r:embed="rId1"/>
          <a:stretch/>
        </p:blipFill>
        <p:spPr>
          <a:xfrm>
            <a:off x="2743200" y="1447920"/>
            <a:ext cx="4560840" cy="4724280"/>
          </a:xfrm>
          <a:prstGeom prst="rect">
            <a:avLst/>
          </a:prstGeom>
          <a:ln w="0">
            <a:noFill/>
          </a:ln>
        </p:spPr>
      </p:pic>
      <p:sp>
        <p:nvSpPr>
          <p:cNvPr id="165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Setting Up and Connecting to a Remote Site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371600" y="1371240"/>
            <a:ext cx="739152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To set up a remote sit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Gather information about your remote site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Open the Remote Site Properties dialog box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Enter your hosting account information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Enter your user name and password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Verify that you are connected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Setting Up and Connecting to a Remote Site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pic>
        <p:nvPicPr>
          <p:cNvPr id="170" name="Content Placeholder 4" descr="FigH-12.bmp"/>
          <p:cNvPicPr/>
          <p:nvPr/>
        </p:nvPicPr>
        <p:blipFill>
          <a:blip r:embed="rId1"/>
          <a:stretch/>
        </p:blipFill>
        <p:spPr>
          <a:xfrm>
            <a:off x="2057400" y="1447920"/>
            <a:ext cx="6197760" cy="4647960"/>
          </a:xfrm>
          <a:prstGeom prst="rect">
            <a:avLst/>
          </a:prstGeom>
          <a:ln w="0">
            <a:noFill/>
          </a:ln>
        </p:spPr>
      </p:pic>
      <p:sp>
        <p:nvSpPr>
          <p:cNvPr id="171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Setting Up and Connecting to a Remote Site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4" name="Content Placeholder 6" descr="FigH-13.bmp"/>
          <p:cNvPicPr/>
          <p:nvPr/>
        </p:nvPicPr>
        <p:blipFill>
          <a:blip r:embed="rId1"/>
          <a:stretch/>
        </p:blipFill>
        <p:spPr>
          <a:xfrm>
            <a:off x="2666880" y="1600200"/>
            <a:ext cx="486252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Setting Up and Connecting to a Remote Site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pic>
        <p:nvPicPr>
          <p:cNvPr id="176" name="Content Placeholder 4" descr="FigH-14.bmp"/>
          <p:cNvPicPr/>
          <p:nvPr/>
        </p:nvPicPr>
        <p:blipFill>
          <a:blip r:embed="rId1"/>
          <a:stretch/>
        </p:blipFill>
        <p:spPr>
          <a:xfrm>
            <a:off x="2057400" y="1371600"/>
            <a:ext cx="6299280" cy="4724280"/>
          </a:xfrm>
          <a:prstGeom prst="rect">
            <a:avLst/>
          </a:prstGeom>
          <a:ln w="0">
            <a:noFill/>
          </a:ln>
        </p:spPr>
      </p:pic>
      <p:sp>
        <p:nvSpPr>
          <p:cNvPr id="177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95280" y="1447560"/>
            <a:ext cx="739152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Understand Web server types</a:t>
            </a:r>
            <a:endParaRPr b="0" lang="en-US" sz="29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Set up and connect to a remote Web site</a:t>
            </a:r>
            <a:endParaRPr b="0" lang="en-US" sz="29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Publish a Web site</a:t>
            </a:r>
            <a:endParaRPr b="0" lang="en-US" sz="29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1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Publishing a Web Site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95280" y="1447560"/>
            <a:ext cx="739152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To publish your sit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hoose a publishing option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Local to remote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From remote to local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Synchronize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Publish your sit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Verify that your site was published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Publishing a Web Site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pic>
        <p:nvPicPr>
          <p:cNvPr id="182" name="Content Placeholder 4" descr="FigH-16.bmp"/>
          <p:cNvPicPr/>
          <p:nvPr/>
        </p:nvPicPr>
        <p:blipFill>
          <a:blip r:embed="rId1"/>
          <a:stretch/>
        </p:blipFill>
        <p:spPr>
          <a:xfrm>
            <a:off x="1981080" y="1828800"/>
            <a:ext cx="5994360" cy="4495680"/>
          </a:xfrm>
          <a:prstGeom prst="rect">
            <a:avLst/>
          </a:prstGeom>
          <a:ln w="0">
            <a:noFill/>
          </a:ln>
        </p:spPr>
      </p:pic>
      <p:sp>
        <p:nvSpPr>
          <p:cNvPr id="183" name="Footer Placeholder 4"/>
          <p:cNvSpPr/>
          <p:nvPr/>
        </p:nvSpPr>
        <p:spPr>
          <a:xfrm>
            <a:off x="2666880" y="640080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523880" y="12952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emote Web Site view after publishing file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Publishing a Web Site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pic>
        <p:nvPicPr>
          <p:cNvPr id="186" name="Content Placeholder 4" descr="FigH-17.bmp"/>
          <p:cNvPicPr/>
          <p:nvPr/>
        </p:nvPicPr>
        <p:blipFill>
          <a:blip r:embed="rId1"/>
          <a:stretch/>
        </p:blipFill>
        <p:spPr>
          <a:xfrm>
            <a:off x="1447920" y="1752480"/>
            <a:ext cx="7391160" cy="3673440"/>
          </a:xfrm>
          <a:prstGeom prst="rect">
            <a:avLst/>
          </a:prstGeom>
          <a:ln w="0">
            <a:noFill/>
          </a:ln>
        </p:spPr>
      </p:pic>
      <p:sp>
        <p:nvSpPr>
          <p:cNvPr id="187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Verify Hyperlink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95280" y="2285640"/>
            <a:ext cx="739152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Launch Expression Web, then open the site you are working on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Reports View button 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at the bottom of the Web Site tab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Verify Hyperlink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97" name="Content Placeholder 5" descr="FigH-01.bmp"/>
          <p:cNvPicPr/>
          <p:nvPr/>
        </p:nvPicPr>
        <p:blipFill>
          <a:blip r:embed="rId1"/>
          <a:stretch/>
        </p:blipFill>
        <p:spPr>
          <a:xfrm>
            <a:off x="2057400" y="129528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Verify Hyperlink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pic>
        <p:nvPicPr>
          <p:cNvPr id="99" name="Content Placeholder 4" descr="TblH-01.bmp"/>
          <p:cNvPicPr/>
          <p:nvPr/>
        </p:nvPicPr>
        <p:blipFill>
          <a:blip r:embed="rId1"/>
          <a:stretch/>
        </p:blipFill>
        <p:spPr>
          <a:xfrm>
            <a:off x="1371600" y="2286000"/>
            <a:ext cx="741204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0" name="Footer Placeholder 3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447920" y="15238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eports available in the Reports View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Verify Hyperlink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95280" y="1371240"/>
            <a:ext cx="739152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Unverified hyperlinks link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05" name="Picture 4" descr="FigH-02.bmp"/>
          <p:cNvPicPr/>
          <p:nvPr/>
        </p:nvPicPr>
        <p:blipFill>
          <a:blip r:embed="rId3"/>
          <a:stretch/>
        </p:blipFill>
        <p:spPr>
          <a:xfrm>
            <a:off x="2209680" y="1905120"/>
            <a:ext cx="558828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Verify Hyperlink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09" name="Picture 4" descr="FigH-03.bmp"/>
          <p:cNvPicPr/>
          <p:nvPr/>
        </p:nvPicPr>
        <p:blipFill>
          <a:blip r:embed="rId3"/>
          <a:stretch/>
        </p:blipFill>
        <p:spPr>
          <a:xfrm>
            <a:off x="2438280" y="1981080"/>
            <a:ext cx="538488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Verify Hyperlink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295280" y="2285640"/>
            <a:ext cx="739152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Hyperlinks list arrow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then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Site Summary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7:09:54Z</dcterms:created>
  <dc:creator/>
  <dc:description/>
  <dc:language>en-US</dc:language>
  <cp:lastModifiedBy>Thomson</cp:lastModifiedBy>
  <dcterms:modified xsi:type="dcterms:W3CDTF">2008-07-24T20:14:46Z</dcterms:modified>
  <cp:revision>90</cp:revision>
  <dc:subject/>
  <dc:title>Computer Concepts-Illustrated Introductory, Sixth Edition, Enhanced</dc:title>
</cp:coreProperties>
</file>