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65F5-DDA8-4C61-849B-75798DA5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E04F-04BF-46F1-BDC7-4D3DF5428F5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AC29-164C-40B2-90A9-5A3EFCD71B9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A2A-4C49-4EB1-A8A1-5981EA01144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D7D7-B43E-43F6-A20F-8703D7F6664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65CD-E307-42FF-971A-BB108E34EA4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66C5-6F76-4787-9DAC-3CC13B36758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F8C-EAFC-4D3D-AFEC-BBD3BD204F9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01B-A3CC-4536-9342-FA4C1F8BB45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34A3-8A49-48C2-B47E-B5EB140BEAA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FB4-4BBF-4AF2-ADF7-D8DE95584B9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3F3-B4E0-4F33-9AE6-07506599B9A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B88-0735-466C-9044-226CFF3968C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6F75-B5AF-4A09-937F-C94B22EA146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4619-3669-4D37-BDDE-99707D69F80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412E-16DD-482E-8A1F-9569B1BE35F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5FB6-BE8F-4A18-8218-AFDB3103898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0155-F21C-4564-A50D-A63A84F8D11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ED3A-220D-425B-AE90-E2788BD9583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3C65-C316-4C7D-B807-753C193E05B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E611-CECC-4B5E-8399-F67DA4101DD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4B9C-21E7-4F19-A1B7-9C68FB7CAE7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5DC4-5F4C-4778-A79C-B99AE80AFA8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1AAA-CAF6-492C-A18E-2A9FC0A25EE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F87F-294C-4DEF-9ABB-D52EA9E0E6E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D24E-6DFD-4A2A-B486-05B5DC810B8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3AD1-85D6-47C6-B720-D10F69B79C6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78B3-C000-4DC4-8608-AE1F71C941C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96D-B47E-4D69-AF45-3B31C608896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C1B1-B225-4311-B140-40F038E97E2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1D00-D82F-44FF-85DD-1BFFFCD7DFA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646E-FE7F-479B-9294-8F14E602AD6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DFFC-86EB-4FE6-8AC1-DC99528F788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1A36-9493-40A3-A4D7-929FDB0CA48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3056-41CE-4B30-8BB6-171F1E1535C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38EC-4E04-4A44-BC6D-E4E125CAFEE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580F-8EAA-4C9B-AE14-17AFA7680FA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13C0-3578-478A-9481-2D119ABA62A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0451-FD3C-4D44-BD58-010593236E4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EE9C-0685-431D-A492-7C022135795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2799-9C7D-4CCD-B102-80676922BBD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10B0-12A0-49E1-8811-C08F0FDCD4A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E0B8-551B-462D-B6C4-D904D29E466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3CFF-81D7-43E9-9143-E4A27A2B2EA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542E-871A-4EBD-B7A0-C78CB48EDBB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690B-1FB0-43F4-8CB9-155902C4A2A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51E5-5207-4338-8482-EC023005860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3CFC-2551-4F2A-BB0E-494D9C2377C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90B0-621F-4E62-8635-72E19ABEA22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D10D-02BE-4163-A8FD-C94F22FD69C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8A1A-1C34-4565-AEAE-7061589F653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C2C3-654D-4073-83FF-DAF44A5B884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A44-4D6B-41A2-9931-A6CCEC9631C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A05-F39C-4BB9-8241-6A0F967A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27A-3B33-458A-AD67-5844FD10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788C-71AA-4835-8A44-93181407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4BD-DD90-4D70-9851-C72D8EE6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F727-2AAB-497A-BF27-8712A109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409F-38FD-4E13-B8A3-D3A0C471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31B1-BA81-407E-8E8C-8EB9FCF7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9593-71A6-472D-ACC0-475E72B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755-5437-4B28-ADD8-39A1212E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DE94-4FCB-4951-91C1-1A143693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A746-19D9-4C90-A11D-405F620C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4A4-A7B4-46B3-A7EC-A6AC1C19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D130-4957-4B3C-A216-95C3E88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1DE-3C61-464C-8529-0E28B88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6B90-5CE3-4422-915A-2189FBE5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6D6-029A-4A94-904F-0EAD823B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16F0-D4FD-47E2-A0DB-80EB6537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106-3907-4832-A73F-C7153A3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1ED-9CE4-4F1D-BF33-310819A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5A0-DE11-449F-9016-F3A006DE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FFF-102A-40E6-9535-D2B3CADA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9DA-1329-4117-9465-2D0B112A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5135-56F7-4260-A450-AEC529E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AFB-8513-4B33-9D56-9C9FC979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damentals of Java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CCA-19E2-4876-A87E-A0985A77D3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undamentals of Java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7DCE-B019-4C4F-ABDE-9CFACF353D4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hapter 6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ontrol Statements Continued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657600" y="2927160"/>
            <a:ext cx="5029200" cy="19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damentals of Jav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C106-B228-4A7F-89E7-DDAD4A675E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90720" y="53341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2: General rules for AND, OR, and NO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6400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A8E2-7394-498A-9171-DCA412F5A0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use parentheses with complex expre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(the sun is shining AND it is 8 a.m.) OR (NOT your brother is visiting) then let’s go for a walk else let’s stay at ho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the sun is shining AND (it is 8 a.m. OR (NOT your brother is visiting)) then let’s go for a walk else let’s stay at ho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th tables would clarify these stat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25EC-D384-482B-BF34-66406994D3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’s logical opera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||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edence ru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as same precedence as other unary operat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nly have higher precedence than the assignment operat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has higher precedence than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||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AFA3-93C1-4D04-B347-4658FE53A0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286000" y="2971800"/>
            <a:ext cx="4571640" cy="3276360"/>
            <a:chOff x="2286000" y="2971800"/>
            <a:chExt cx="4571640" cy="3276360"/>
          </a:xfrm>
        </p:grpSpPr>
        <p:pic>
          <p:nvPicPr>
            <p:cNvPr id="155" name="Picture 4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2286000" y="2971800"/>
              <a:ext cx="45716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2286000" y="3951720"/>
              <a:ext cx="4491000" cy="2296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C6F1-DF10-43F7-A163-3EF3D5024C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olean variabl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have value of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imitive data type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boolean b1 = true;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if ( b1 ) {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&lt;do something&gt;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7AB6-4261-4FE0-B51D-41EA667F3A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reak down complex Boolean expressions into a series of simpler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ful equivalen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(p || q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p &amp;&amp; !q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(p &amp;&amp; q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p || !q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p || (q &amp;&amp; r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(p || q) &amp;&amp; (p || r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p &amp;&amp; (q || r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(p &amp;&amp; q) || (p &amp;&amp; r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BD85-6AF8-422A-ADDB-691D0FDCE0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ort-circuit evaluat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VM may know result of a Boolean expression before evaluating all of its par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tops evaluation as soon as result is know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if( true || false 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Entire condition is 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because first operand of the Boolean expression is 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cond operand not examined at all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4050-B112-42F9-8521-74490BF3246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ity assurance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going process of making sure that a software product is developed to the highest standards possib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ubject to the constraints of time and mone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should try to achiev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lete code cover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very line in a program executed at least onc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95F-4058-45F5-98D6-FCF8EF98C0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sets of test data that exercise a program in the same manner belong to sam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quivalence cl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est same paths through the progra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should include cases that assess program’s behavior und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undary condi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n or near boundaries between equivalence class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C6F1-6118-457C-AC1A-82BD55AECC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und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treme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data at the limits of valid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validation r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 values that are valid and invali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 boundary values between the tw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782B-C7A4-45BF-943C-9B6D297C72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complex Boolean expressions using the logical operator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ND)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)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NO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truth tables for Boolean expres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logic of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nd 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603B-35C8-4CA8-B8AD-CDB550F195D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ing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within othe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ernative to using logical oper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C9C0-907E-4B9F-BECD-D303A5DAE26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95280" y="55627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6: Truth table for reading a book, watching TV, or going for a wal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540560" cy="1335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838080" y="23623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can be translated to an equivalen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hat uses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reverse is also tru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B57F-DBDB-4418-B483-3502F2B52E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19320" y="5715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4: Flowchart for reading a book, watching TV, or going for a wal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00400" y="2438280"/>
            <a:ext cx="274320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3F67-0759-4613-99B6-D5C48906A59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90920" y="2895480"/>
            <a:ext cx="37702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213-B1C4-4770-BAF1-28EDDAFD22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tended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tat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2286000" y="3200400"/>
            <a:ext cx="4571280" cy="2742840"/>
            <a:chOff x="2286000" y="3200400"/>
            <a:chExt cx="4571280" cy="2742840"/>
          </a:xfrm>
        </p:grpSpPr>
        <p:pic>
          <p:nvPicPr>
            <p:cNvPr id="207" name="Picture 15" descr=""/>
            <p:cNvPicPr/>
            <p:nvPr/>
          </p:nvPicPr>
          <p:blipFill>
            <a:blip r:embed="rId1"/>
            <a:stretch/>
          </p:blipFill>
          <p:spPr>
            <a:xfrm>
              <a:off x="2376360" y="3200400"/>
              <a:ext cx="4480920" cy="157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1" descr=""/>
            <p:cNvPicPr/>
            <p:nvPr/>
          </p:nvPicPr>
          <p:blipFill>
            <a:blip r:embed="rId2"/>
            <a:stretch/>
          </p:blipFill>
          <p:spPr>
            <a:xfrm>
              <a:off x="2286000" y="4743720"/>
              <a:ext cx="3713040" cy="1199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706-0675-49A6-9AF2-F6CB2B42CD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placed braces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221280" cy="1600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3276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3F82-2164-4B10-9585-392806FD535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371600" y="541008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7: Truth table for version 1 and version 2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6932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47DA-4C49-4CD7-A0AC-E19F8452B10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braces removed, Java pairs th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closest preceding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create logic or syntax errors if not carefu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you spot the error in the following code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971800" y="4648320"/>
            <a:ext cx="32004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F5D-8489-41FE-8603-E9EB3B1680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ter to over-use braces than under-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der of conditions often important in 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tr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you spot the logic error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286000" y="4800600"/>
            <a:ext cx="4572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D40E-467B-4395-8E37-D1DA3EE798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ing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can improve clarity, as 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3428640"/>
            <a:ext cx="7464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90 &lt;= average ) grade is A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80 &lt;= average &amp;&amp; average &lt; 90) grade is B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70 &lt;= average &amp;&amp; average &lt; 80) grade is C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60 &lt;= average &amp;&amp; average &lt; 70) grade is D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 average &lt; 60) grade is F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A999-3F3E-404B-8E87-B25A7D754C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in a comprehensive man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nested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ppropriate test cases f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nd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purpose of assertions, invariants, and loop verifi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C8E3-6E67-4B20-873F-7A6C8C40A5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op within another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5720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30E-DE54-4993-898C-63EADA291D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increase difficulty of tes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ften do not iterate some fixed number of tim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sign test data to cover situation where loop iterates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Zero tim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One tim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ultiple tim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EA9E-5692-4217-A0AF-8D1E960278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58000" cy="1457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914400" y="59436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0: Test data for the count divisors progra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4572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C8D-BC84-46E2-90EF-D560D83D9E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binatorial Explos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test data to verify multiple dependant components can result in huge amount of test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3 dependent components, each of which requires 5 tests to verify functionalit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otal number of tests to verify entire program is 5*5*5=125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181-1EAC-499B-AD40-96FCA6E25F1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bust program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lerates errors in user inputs and recovers grace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 and easiest way to write robust programs is to check user inputs immediately on entr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Reject invalid user inpu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3B58-B944-448D-8936-ECBA5E1A97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 of guaranteeing that a loop performs its intended 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ndependently of testing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tatemen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lows programmer to evaluate a Boolean expression and halt the program with an error message if the expression’s value is 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General form: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assert &lt;Boolean expression&gt;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644E-428A-4027-B301-32D3CC028D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nable when running the prog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java -enableassertions AJavaProgra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990720" y="56386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ample 6.1: Assert that x != 0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5720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6F27-DECE-41F9-92A3-8D55C0B219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914400" y="51814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6: Failure of an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2" name="Picture 5" descr="Fig06-06"/>
          <p:cNvPicPr/>
          <p:nvPr/>
        </p:nvPicPr>
        <p:blipFill>
          <a:blip r:embed="rId1"/>
          <a:stretch/>
        </p:blipFill>
        <p:spPr>
          <a:xfrm>
            <a:off x="1828800" y="289548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47C0-7230-460B-9110-FFEC74D51A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Assertion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th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 assertions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what can be expected to be true before a loop is ent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tput assertions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what can be expected to be true when the loop is ex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Picture 4" descr="Tbl06-12"/>
          <p:cNvPicPr/>
          <p:nvPr/>
        </p:nvPicPr>
        <p:blipFill>
          <a:blip r:embed="rId1"/>
          <a:stretch/>
        </p:blipFill>
        <p:spPr>
          <a:xfrm>
            <a:off x="1752480" y="4495680"/>
            <a:ext cx="579132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6"/>
          <p:cNvSpPr/>
          <p:nvPr/>
        </p:nvSpPr>
        <p:spPr>
          <a:xfrm>
            <a:off x="762120" y="58672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2: Sums of the proper divisors of some intege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8796-1B5F-4F9D-809E-9A0B9BF042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Assertion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th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 proper divisors of positive integ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9144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914400" y="3962520"/>
            <a:ext cx="8077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put asser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m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is a positive integ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divisorSum == 0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ut asser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divisorSum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is sum of all proper divisors of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F0A7-7BF8-498A-8F30-65656D93C1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thmetic overf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undary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binatorial explo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 code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valence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5136-2347-4178-B3DD-33EBACD4AC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Invariant and Variant Asser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 invariant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rtion that expresses a relationship between variables that remains constant throughout all loop it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 variant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rtion whose truth changes between the first and final it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tated so that it guarantees the loop is exite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occur in p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9FF3-1E07-4FF5-9DDD-8018FC09626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Invariant and Variant Asser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47920" y="2514600"/>
            <a:ext cx="64148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B542-C613-493F-B8EF-70264F3F2C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imation, slightly different frames are displayed in order at a rapid r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oduces illusion of continuous movemen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ng objects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Velocit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stance (in pixels) traveled in a given unit of tim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irec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0677-9AA8-43EB-B3D9-88569F5AA7C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762120" y="56386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7: Representing directions in two dimensi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86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C6B0-1722-4017-82AA-EBEF9D17D90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gorithm for animating a graphical obj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572000" cy="990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6"/>
          <p:cNvSpPr/>
          <p:nvPr/>
        </p:nvSpPr>
        <p:spPr>
          <a:xfrm>
            <a:off x="9144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provide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to schedule events at regular interv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8C58-F220-4ED3-8C08-C00ED81058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r for animations is an instance of the clas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1828800" y="4876920"/>
            <a:ext cx="5486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6252-5790-481F-BFA6-5FF3D72295E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762120" y="56386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5: Some commonly used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Timer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metho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Picture 5" descr="Tbl06-15"/>
          <p:cNvPicPr/>
          <p:nvPr/>
        </p:nvPicPr>
        <p:blipFill>
          <a:blip r:embed="rId1"/>
          <a:stretch/>
        </p:blipFill>
        <p:spPr>
          <a:xfrm>
            <a:off x="914400" y="2590920"/>
            <a:ext cx="73152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E614-D57F-45F5-AF65-F6B0ACFA76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errors involving selection statements and loops are not syntax errors caught at compil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esence or absence of braces can seriously affect the logic of a selection statement or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132-D20E-4F09-A057-5E1813CFC1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programs with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ments, use data that force the program to exercise all logical branch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programs with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, formulate equivalence classes, boundary conditions, and extreme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an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rather than two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when the alternative courses of action are mutually exclus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A2C4-555B-4767-9AE8-79029319EA9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a loop, use limit values as well as typical val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entry and exit conditions for each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 loop with errors, use debugging output statements to verify the control variable’s value on each pass through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heck value before the loop is initially entered, after each update, and after the loop is exit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2C14-6A12-4997-BC36-7877D600F3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reme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put asser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ope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 invari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 vari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EF09-9175-4BFA-B51E-237D3A0735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mplex Boolean expression contains one or more Boolean expressions and the logical operator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ND)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)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NO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ruth table can determine the value of any complex Boolean expres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ses short-circuit evaluation of complex Boolean expres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B4D-F242-4C0F-BC9D-EACA3E0C21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re another way of expressing complex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can be translated to an equivalen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hat uses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xtended or multiway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expresses a choice among several mutually exclusive alternativ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7671-D241-4A85-9026-C85E4C44BA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can be nested in other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valence classes, boundary conditions, and extreme conditions are important features used in tests of control structures involving complex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can be verified to be correct by using assertions, loop variants, and loop invaria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12B-019C-4A7B-B7F8-426212BB7A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ut asser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bu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th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569D-8E06-4411-A2BE-445ABC694B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in Boolean expressions that control the behavior of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ree logical opera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mbine smaller logical expressions into larger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0735-47C9-4AE4-9CCF-E404D2D006F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uth tabl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complex logical expressions, shows how value of overall condition depends on values of oper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l combinations of values considere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5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combinations of true and false for </a:t>
            </a:r>
            <a:r>
              <a:rPr b="0" i="1" lang="en-US" sz="25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operand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21BC-F398-4F7C-81F4-29D240E56CA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90720" y="60199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: Truth tables for three example sentenc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894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/>
  <dc:description/>
  <dc:language>en-US</dc:language>
  <cp:lastModifiedBy>End User</cp:lastModifiedBy>
  <dcterms:modified xsi:type="dcterms:W3CDTF">2010-01-15T15:54:51Z</dcterms:modified>
  <cp:revision>92</cp:revision>
  <dc:subject/>
  <dc:title>Chapter 6 Control Statements Continued</dc:title>
</cp:coreProperties>
</file>