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3.wmf" ContentType="image/x-wmf"/>
  <Override PartName="/ppt/media/image26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0DD-BBCF-4FFC-8766-4ACDDE4E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C12-44C5-4B15-A2B1-82CB9C4C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8D9-9EDB-4D4C-AE73-AFDC25C0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D0C-2A1E-4C0C-B294-3BBBEDA8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066B-D744-4BF5-97B7-837DD4CD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972B-D392-4568-A2BA-A131CB1D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2136-C088-45C6-A28B-57934C1A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55F5-5508-4179-8E5B-5C4EE2E5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CE39-4B85-467E-8960-7B9B7606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CE9B-25C7-4302-8CF1-27C98B2B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2A55-038B-4B0D-BD20-8718561A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820-0A42-4C1C-A7CA-FFB3B374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70AD-3AA0-46C8-898D-C2F6D0C6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F8AF-5060-4CA7-90AD-BC7822EF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E032-6CC0-4359-8958-DDB59FFF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D367-AA20-45CA-979B-2029FE38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E96F-7221-4752-941E-EAC9F29A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D17-CC8D-4592-8AC4-31881984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ED8-4FC2-4A15-815E-66BA735A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691-9938-4C32-9104-AD969D7D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89F-3E84-4C96-97F5-1E8133B7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8F6-3BDF-44DF-99B7-5ABC5125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95B-79D7-424B-B4FD-C2CA103E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75A-2BCA-4EEA-AD9A-116005AE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F232-176E-489A-BD4E-2AFDAB07622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F5FF-9D48-4810-BB8F-631D61E36E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Introduction to Array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581280" y="2927160"/>
            <a:ext cx="51055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undamentals of Jav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mple Array Manipul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14400" y="3276720"/>
            <a:ext cx="7462800" cy="2352600"/>
            <a:chOff x="914400" y="3276720"/>
            <a:chExt cx="7462800" cy="2352600"/>
          </a:xfrm>
        </p:grpSpPr>
        <p:pic>
          <p:nvPicPr>
            <p:cNvPr id="117" name="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914400" y="3276720"/>
              <a:ext cx="741384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963720" y="3564000"/>
              <a:ext cx="736920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3">
              <a:lum bright="-6000"/>
            </a:blip>
            <a:stretch/>
          </p:blipFill>
          <p:spPr>
            <a:xfrm>
              <a:off x="963720" y="4249800"/>
              <a:ext cx="741348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4">
              <a:lum bright="-6000"/>
            </a:blip>
            <a:stretch/>
          </p:blipFill>
          <p:spPr>
            <a:xfrm>
              <a:off x="963720" y="5392800"/>
              <a:ext cx="7413480" cy="23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E71-A630-47E1-BD0F-E5A1CA2BD1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mple Array Manipul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Range-bound error: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Referring to a non-existent array index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ArrayIndexOutOfBoundsExcep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row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abc[-1] = 48;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abc[500] = 48;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nterchanging adjacent array elements: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43000" y="5181480"/>
            <a:ext cx="6694560" cy="1218960"/>
            <a:chOff x="1143000" y="5181480"/>
            <a:chExt cx="6694560" cy="1218960"/>
          </a:xfrm>
        </p:grpSpPr>
        <p:pic>
          <p:nvPicPr>
            <p:cNvPr id="124" name="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1143000" y="5790960"/>
              <a:ext cx="66945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1143000" y="5181480"/>
              <a:ext cx="6694560" cy="59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015-074A-4522-96EF-84DEC15D4D7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ing Through Arr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a loop to iterate through each element in an array is a common tas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Loop counter used as array index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xample applications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Sum the elements of an arra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ount occurrences of a value in an arra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Search for a value in an arra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Find first occurrence of a value in an arra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38C-A219-4E0B-A3FF-79DE40F37CB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ing Through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rray’s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tance variable yields the size of the arr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 of loop structure for looping through an array of any siz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4800600"/>
            <a:ext cx="457200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A88-EB43-442D-9EB3-7E7F7304D0F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are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be instantiated before 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laration examp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int[] abc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tantiation examp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abc = new int[5]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riation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int[] abc = new int[5]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int[] abc = new int[5], xyz = new int[10]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2F5-C743-4C40-B1B6-C1318AE78A0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 arrays are objects, all rules that apply to objects apply to arra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wo array variables may refer to same array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rrays may be garbage collected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rray variables may be set to 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null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rrays are passed by reference to method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698-88C8-4209-99EF-806754B67E2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 of two array variables pointing to same array objec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14400" y="3657600"/>
            <a:ext cx="7862760" cy="14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3C0-6C81-445A-91F6-A52AF1D7354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54864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2: Two variables can refer to the same array object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2554560" cy="26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19A-8AEB-462D-B521-0E829C6A9D1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can be declared, instantiated, and initialized using a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itializer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7729560" cy="270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14400" y="4191120"/>
            <a:ext cx="7693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can contain collections of similar ite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Primitive or reference type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set, the size of an array is fix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387-BCF5-4075-86C4-8CFB837DCC5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981080" y="2895480"/>
            <a:ext cx="4983120" cy="34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6DE-B76D-4C08-B0A0-088614458E2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programs that handle collections of similar ite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lare array variables and instantiate array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ipulate arrays with loops, including the enhanc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C51-BC76-449C-9D07-EF5EC1B399A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ing with Arrays That Are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t Fu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an array is instantiated, it is filled with default valu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pplication might not fill all cel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ysical siz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maximum number of elements that an array can con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ogical siz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actual number of elements stored in an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293C-73AB-4442-B497-FAA276CA07C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ing with Arrays That Are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t Full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ork with arrays that are not full, the programmer must track the logical array siz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eclare an integer counter that will always indicate the number of element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very time an element is added or removed, adjust the counter accordingly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counter indicates the logical size of the array and the next open position in the array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1257-565F-4CCA-B880-65BA1E3D33D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ing with Arrays That Are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t Full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ssing an array that is not ful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295280" y="2895480"/>
            <a:ext cx="6629400" cy="1828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38080" y="4800600"/>
            <a:ext cx="769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ing an elem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895480" y="5334120"/>
            <a:ext cx="2824200" cy="92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BCA-A9D2-4CC5-9962-5E528E5AD99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allel Arr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or more arrays of the same size that store complementary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 one array stores first names and a second stores corresponding ag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5105520"/>
            <a:ext cx="640080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69A-1855-4152-A58A-1112DD1C779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 array discussed so far is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ne-dimension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rr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sualized as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items or val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may have multiple dimen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-dimensional arrays can be visualized a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abl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ith rows and colum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“array of array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ach element of a one-dimensional array contains another array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D67-8439-44C4-AEA8-2CA60BFA567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51055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3: Two-dimensional array with four rows and five column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486400" cy="196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CE5-775C-4A9D-8A0C-0A078B12A79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laring and instantiating a two-dimensional array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371600" y="3886200"/>
            <a:ext cx="640080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159-03FD-4B93-8FA8-A266DC182E9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54100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4: Another way of visualizing a two-dimensional arra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576760" cy="291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ED9-EF1B-4F45-AC76-54C54428125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oping through a two-dimensional array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828800" y="3733920"/>
            <a:ext cx="54864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DBA-EAD5-474E-A593-89AF1D2FEF7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itializer lists for two-dimensional array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828800" y="3124080"/>
            <a:ext cx="5486400" cy="1219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914400" y="43434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ows in a two-dimensional array may have varying length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agged arr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A97-895D-44CF-A59F-80BF51153CE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methods to manipulate arra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parallel arrays and two-dimensional arra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A55-7003-4560-B6E9-21D3F1C1CDD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Enhanc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fo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Loo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d in Java 5.0 to simplify loops in which each element in an array is acces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From the first index to the las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Frees programmer from having to manage and use loop counter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71600" y="5410080"/>
            <a:ext cx="64008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F4E-010A-43FF-BF3A-686A62AE98A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Enhanc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fo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Loop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9436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xample 9.3: Testing the enhanced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loop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14600" y="2438280"/>
            <a:ext cx="4114440" cy="3428640"/>
            <a:chOff x="2514600" y="2438280"/>
            <a:chExt cx="4114440" cy="3428640"/>
          </a:xfrm>
        </p:grpSpPr>
        <p:pic>
          <p:nvPicPr>
            <p:cNvPr id="184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2514600" y="2438280"/>
              <a:ext cx="4114440" cy="141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2514600" y="3859200"/>
              <a:ext cx="4114440" cy="200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446-4337-4FCF-A419-A96A1C8FC05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Enhanc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fo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Loop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not be used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Move through an array in reverse, from the last position to the first position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ssign elements to positions in an array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rack the index position of the current element in an array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ccess any element other than the current element on each pas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CEC-726F-4FD2-84E5-01D6E3C1077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rays and Meth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 arrays are objects, they are passed by reference to metho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method manipulates the array itself, not a copy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hanges to array made in the method exist after method is complete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ethod may create a new array and return i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908-4226-4267-9BD6-D9368836831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rays and Method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 to search for a value in an arra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114800" cy="1295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38080" y="4191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 to sum the rows in a 2-D arra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4724280"/>
            <a:ext cx="4114800" cy="16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617-6335-45C5-9839-9B528DAE2E5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rays and Method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2819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 to make a copy of an array and return i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962520" y="2819520"/>
            <a:ext cx="380988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8E1-C3EB-4728-A3C2-4D56C7E31A5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rays of Obje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can hold references to objects of any ty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When instantiated, each cell has a value of 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null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828800" y="4952880"/>
            <a:ext cx="548640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7BA-FA99-4845-A727-29A8394B3DB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: Design Techni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UML diagrams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: Industry standard for designing and representing a set of interacting classes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Structure charts: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May be used to depict relationships between classes and the order of methods called in a program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Procedural decomposition: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Technique of dividing a problem into sub-problems and correlating each with a method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DF3-0EF2-4DC2-AA3D-60E1EE36FAF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: Design Techniqu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55627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6: UML diagram of the classes in the student test scores progra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943600" cy="281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EE4C-A1C0-44BB-8FD8-C9A549F1C14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: Design Techniqu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52578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7: Structure chart for the methods of class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TestScoresView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5943600" cy="213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FDD-00FF-42EA-BE43-37B02D16B0E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hanc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itializer 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gical s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688-4750-4D7B-97F7-EFB399EC3B9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reate an arra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lare an array vari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tantiate an array object and assign it to the array vari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lize the cells in the array with data, as appropria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creating a new array object, try to determine an accurate estimate of the number of cells requi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32B-0C39-4AA5-9EAB-3B53C63E567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 that array variables are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ntil they are assigned array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void index out-of-bounds errors, remember that the index of an array cell ranges from 0 (the first position) to the length of the array minus 1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ccess the last cell in an array, use the expression </a:t>
            </a:r>
            <a:r>
              <a:rPr b="0" i="1" lang="en-US" sz="2800" spc="-1" strike="noStrike">
                <a:solidFill>
                  <a:srgbClr val="003366"/>
                </a:solidFill>
                <a:latin typeface="Courier New"/>
              </a:rPr>
              <a:t>&lt;array&gt;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.length – 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2062-B294-4E3C-8A11-A85199FA5C0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oid having multiple array variables refer to the same arr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opy the contents of one array to another, do not use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A = B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tead, write a copy method and use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A = arrayCopy(B)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an array is not ful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rack the current number of element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void index out-of-bounds error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7BC-0014-4507-A426-A68A9DB515C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are collections of similar items or elements ordered by posi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are useful when a program needs to manipulate many similar items, such as a group of students or a number of test sc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are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be instanti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be referred to by more than one vari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993-044C-4191-8DA3-563C57A14C8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rray can be passed to a method as a parameter and returned as a val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llel arrays are useful for organizing information with corresponding el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-dimensional arrays store values in a row-and-column arrang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B22-BBD8-424B-9D7B-E05D73E3826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nhanc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 is a simplified version of a loop for visiting each element of an array from the first position to the last posi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20D-E69A-44AE-98C4-49FCD070A816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dimensional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-dimensional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llel arra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ysical s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dural decom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65C-CD6A-4F4F-8A96-5277E9B4AC6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gged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nge-bound err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 ch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bscri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-dimensional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434-0C61-4CFF-B2AC-4BCE058DAF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eptual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86728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1: Three arrays, each containing five element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678204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1308-7175-4329-8B64-BF47307BEE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eptual Overview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lement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items in an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array elements have the same data ty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an be primitive or reference typ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 array has a fixe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eng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siz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 array element has a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bscrip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ppear within square brackets (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[]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ABE-CB4F-4E85-9594-401C37ED264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mple Array Manipu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laring an array of 500 integ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int[] abc = new int[500]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ntax for referring to an array elem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66"/>
                </a:solidFill>
                <a:latin typeface="Courier New"/>
              </a:rPr>
              <a:t>&lt;array name&gt;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[</a:t>
            </a:r>
            <a:r>
              <a:rPr b="0" i="1" lang="en-US" sz="2500" spc="-1" strike="noStrike">
                <a:solidFill>
                  <a:srgbClr val="003366"/>
                </a:solidFill>
                <a:latin typeface="Courier New"/>
              </a:rPr>
              <a:t>&lt;index&gt;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]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66"/>
                </a:solidFill>
                <a:latin typeface="Courier New"/>
              </a:rPr>
              <a:t>&lt;index&gt;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must be between 0 and the array’s length minus 1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bscript operator: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[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3F7-2589-43CB-89B1-80DB9452505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/>
  <dc:description/>
  <dc:language>en-US</dc:language>
  <cp:lastModifiedBy>Custom Editorial Productions</cp:lastModifiedBy>
  <dcterms:modified xsi:type="dcterms:W3CDTF">2006-01-20T18:42:29Z</dcterms:modified>
  <cp:revision>88</cp:revision>
  <dc:subject/>
  <dc:title>Chapter 9 Introduction to Arrays</dc:title>
</cp:coreProperties>
</file>