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B449-B496-446C-AB46-D901FAB50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6385-6E6E-45C2-8656-45C516FFEBB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93B9-F9E1-4A6B-B60E-4B1A7575508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CD48-36A2-4B97-910C-951A490EB95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A7ED-75A7-45B2-85C5-2A2492CD25E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92B5-E3FD-424D-83D0-D8D461A3706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B93E-ADC6-4E1E-BE95-97D5EC891A4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52EE-D0AE-4E15-8EF6-3B77777CD76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2707-C9FF-4F78-9072-C4E7E17FA9E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D23F-D5BF-4C77-B071-EC4720FE0AB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685B-1F7A-465A-B6EB-5684C76E2A5D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BDDD-A8A7-477A-ADF6-7B0418817AF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73BA-6968-4FDC-9F26-24CA9B045A0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05D6-0DA8-43F8-B944-170F6FE3541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A604-F110-471B-B370-1F94DE8497E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7C26-E027-43D9-AF51-E5C67CD7E4B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6CD1-C452-475B-89F6-6CFFECC6995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AC83-AECA-454C-A1CE-C27E7AC65E4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6D14-5111-4CFA-8518-9E97D70AD57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ED02-F7B4-4FAC-945E-55B11284DC1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8E2B-212C-42CB-A8B4-D1E81D0B748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FDB9-FF69-4EE7-892D-94F1497E334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3FE9-21D0-4A11-A6B3-4C112A5AF8B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C8F8-2F65-49BD-BD4D-70B89C5CD6C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2B00-59CB-45C2-84A5-D7E1266315D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A23A-6782-4DC0-9663-2FAE8A790AB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33D4-0B87-4448-9601-81DD1BEDE3B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F4B0-C0D9-4F41-81A7-84FED1E1DEF8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C6F5-79CE-4C78-9688-9E478E7A081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AF6B-B744-4D4C-87B7-A8F7F327990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079D-0E54-4C79-9C4C-A8D0D9FFA05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D29F-0D37-44D0-AEB0-28BE814EBA5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7A09-88E8-4AA0-BAAA-3EE7F125B88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72E0-1355-4D8B-869B-2750ED47270D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73AE-21B1-4D1C-8287-0325E5C8390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5A7C-D35E-46DF-8089-F5ED3C89C95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4197-2A53-4496-BBFA-DE24DE436D1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E62B-B36C-4319-98DB-7209CE6E17C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327F-3EDD-4258-ABAD-55B0D832B60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A5BC-6115-4515-8670-C88B6A352F9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4AD9-4A2E-4B03-825D-CFC97E6BC45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24C8-34CB-4F59-86A2-EDFFE9710F8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8EA6-171A-467B-BFF3-098675EB6FE8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9DEA-E8EB-475B-AE6E-BE36590DCC8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938A-1CAA-4340-916C-0EE4E537194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D16B-9178-4739-A407-7A2DDFEF4DDB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04D6-1F40-4772-8970-4C20DFDC18E8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FED6-A410-4FBD-B3BC-3F6C62B225AD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BFB6-2243-446E-85A1-EFE28CFAE1F8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9D90-308E-4E87-87C4-D74284D27BD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D625-F203-44FF-BD97-3733CBBDE21D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C180-EE1B-466F-9E61-EE277897D288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04F0-FE3F-4753-A57B-D1588E617B6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1320-54CD-47A3-8C89-9F7C4677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232-3233-42C7-81C9-B4441D87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651F-E29B-4308-BC13-6FD0080A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479B-9F95-45B0-8EAA-A2CCBEEA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47E3-6D1A-4459-AA61-3FEEF55C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0821-3EF3-42A8-B1A6-482B5C0D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679A-4751-4D83-A6D7-EF82251B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C6E6-BF80-4728-836D-B458CE72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EB26-B3C2-4F70-A2C1-DB3303CA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ACF8-2C67-4EE9-8809-4F4949B3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87AE-BCC3-4D44-BABA-E1A7F5E4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A7D-1D96-4819-8AA5-7DFAC0CB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CDEC-88E9-486D-B86F-61B3810D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2C82-CFDB-4E13-B750-C0FB1A29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DC8E-AF1A-4CB0-B59C-F5D0226D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73A6-54EF-49CD-8A45-48B23B40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B798-C84E-4E26-9609-E4511C32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62FA-9528-4BF9-8BD2-382AC944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867-7FD1-4535-8772-30894EFD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38E-0BBB-406D-8985-CA2089E9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9E5D-0970-4BEE-BC92-91EDF0A4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095-CF5D-4EA8-9F5F-61417D77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6AC-14E9-4B10-A7FE-EA71B736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C82-0B90-4179-BABD-D573526B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ndamentals of Java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FC67-7B3B-4C63-8FD1-993BC7CE440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Fundamentals of Java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E9A5-A483-4E2A-AE52-56BCA338DDA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hapter 6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ontrol Statements Continued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657600" y="2927160"/>
            <a:ext cx="5029200" cy="19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undamentals of Jav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3961-26D1-427F-B225-E662844F803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990720" y="533412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able 6-2: General rules for AND, OR, and NO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1523880" y="2895480"/>
            <a:ext cx="64008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76D5-9517-4D40-8304-436BD878A12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use parentheses with complex expres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f (the sun is shining AND it is 8 a.m.) OR (NOT your brother is visiting) then let’s go for a walk else let’s stay at hom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f the sun is shining AND (it is 8 a.m. OR (NOT your brother is visiting)) then let’s go for a walk else let’s stay at hom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uth tables would clarify these state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6D36-B642-44B6-BC64-1187E779724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’s logical operato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: 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&amp;&amp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: 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||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: 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cedence rul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!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has same precedence as other unary operato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&amp;&amp;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||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nly have higher precedence than the assignment operato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has higher precedence than </a:t>
            </a: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||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B2B5-4CC4-4655-AC74-E585006CAD8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4" name="Group 11"/>
          <p:cNvGrpSpPr/>
          <p:nvPr/>
        </p:nvGrpSpPr>
        <p:grpSpPr>
          <a:xfrm>
            <a:off x="2286000" y="2971800"/>
            <a:ext cx="4571640" cy="3276360"/>
            <a:chOff x="2286000" y="2971800"/>
            <a:chExt cx="4571640" cy="3276360"/>
          </a:xfrm>
        </p:grpSpPr>
        <p:pic>
          <p:nvPicPr>
            <p:cNvPr id="155" name="Picture 4" descr=""/>
            <p:cNvPicPr/>
            <p:nvPr/>
          </p:nvPicPr>
          <p:blipFill>
            <a:blip r:embed="rId1">
              <a:lum bright="-6000"/>
            </a:blip>
            <a:stretch/>
          </p:blipFill>
          <p:spPr>
            <a:xfrm>
              <a:off x="2286000" y="2971800"/>
              <a:ext cx="4571640" cy="101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9" descr="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2286000" y="3951720"/>
              <a:ext cx="4491000" cy="2296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3AB5-419C-4E45-892E-97F59051E85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oolean variable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have value of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Primitive data type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boolean b1 = true;</a:t>
            </a:r>
            <a:br>
              <a:rPr sz="2300"/>
            </a:b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if ( b1 ) {</a:t>
            </a:r>
            <a:br>
              <a:rPr sz="2300"/>
            </a:b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&lt;do something&gt;</a:t>
            </a:r>
            <a:br>
              <a:rPr sz="2300"/>
            </a:b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30CA-5A76-4069-ACD5-FCB15D451F3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reak down complex Boolean expressions into a series of simpler 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ful equivalenc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!(p || q)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!p &amp;&amp; !q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!(p &amp;&amp; q)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!p || !q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p || (q &amp;&amp; r)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(p || q) &amp;&amp; (p || r)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p &amp;&amp; (q || r)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(p &amp;&amp; q) || (p &amp;&amp; r)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B9C2-0A67-49B9-98BA-EA1FC42A048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hort-circuit evaluation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VM may know result of a Boolean expression before evaluating all of its par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tops evaluation as soon as result is known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if( true || false )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Entire condition is </a:t>
            </a: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true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 because first operand of the Boolean expression is </a:t>
            </a: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true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Second operand not examined at all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C704-A191-49FB-B4C3-3B80FC20C21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sting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ality assurance: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going process of making sure that a software product is developed to the highest standards possibl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ubject to the constraints of time and money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 data should try to achiev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lete code covera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Every line in a program executed at least onc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472A-68CE-40D8-ABC0-D40294CC4AD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sting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sets of test data that exercise a program in the same manner belong to sam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quivalence cla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est same paths through the program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 data should include cases that assess program’s behavior und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oundary condi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On or near boundaries between equivalence classe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05A7-2C73-49EF-96ED-0C7FC1858C5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sting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 und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treme cond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data at the limits of valid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 data validation ru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ter values that are valid and invali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st boundary values between the tw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9B15-9E08-4ABF-A2EA-0A847282ABB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 complex Boolean expressions using the logical operators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&amp;&amp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AND),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||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OR), an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!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NO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 truth tables for Boolean express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the logic of nest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 and extend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0C39-D287-446C-84D0-9F7D62238A2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st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cing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 within other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ternative to using logical opera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2971800" y="4114800"/>
            <a:ext cx="320040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4E55-680D-4044-AB76-C574FF2FE7F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st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95280" y="55627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able 6-6: Truth table for reading a book, watching TV, or going for a walk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7540560" cy="13352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7"/>
          <p:cNvSpPr/>
          <p:nvPr/>
        </p:nvSpPr>
        <p:spPr>
          <a:xfrm>
            <a:off x="838080" y="23623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nest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can be translated to an equivalent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that uses logical operato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 reverse is also tru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F67E-EF0E-4E90-9CDF-00F5F92EC55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st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219320" y="57150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6-4: Flowchart for reading a book, watching TV, or going for a walk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200400" y="2438280"/>
            <a:ext cx="274320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7520-2DE6-4F58-B0C7-6B9A0A57F5F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st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90920" y="2895480"/>
            <a:ext cx="37702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Slide Number Placeholder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2161-5A91-42AC-9479-3B835967563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st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tended </a:t>
            </a: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statemen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6" name="Group 23"/>
          <p:cNvGrpSpPr/>
          <p:nvPr/>
        </p:nvGrpSpPr>
        <p:grpSpPr>
          <a:xfrm>
            <a:off x="2286000" y="3200400"/>
            <a:ext cx="4571280" cy="2742840"/>
            <a:chOff x="2286000" y="3200400"/>
            <a:chExt cx="4571280" cy="2742840"/>
          </a:xfrm>
        </p:grpSpPr>
        <p:pic>
          <p:nvPicPr>
            <p:cNvPr id="207" name="Picture 15" descr=""/>
            <p:cNvPicPr/>
            <p:nvPr/>
          </p:nvPicPr>
          <p:blipFill>
            <a:blip r:embed="rId1"/>
            <a:stretch/>
          </p:blipFill>
          <p:spPr>
            <a:xfrm>
              <a:off x="2376360" y="3200400"/>
              <a:ext cx="4480920" cy="157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21" descr=""/>
            <p:cNvPicPr/>
            <p:nvPr/>
          </p:nvPicPr>
          <p:blipFill>
            <a:blip r:embed="rId2"/>
            <a:stretch/>
          </p:blipFill>
          <p:spPr>
            <a:xfrm>
              <a:off x="2286000" y="4743720"/>
              <a:ext cx="3713040" cy="1199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Slide Number Placeholder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A069-387F-43F8-A732-AD3840DFAA5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Errors in Nested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splaced braces 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5181480" y="3352680"/>
            <a:ext cx="3221280" cy="1600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"/>
          <p:cNvPicPr/>
          <p:nvPr/>
        </p:nvPicPr>
        <p:blipFill>
          <a:blip r:embed="rId2"/>
          <a:stretch/>
        </p:blipFill>
        <p:spPr>
          <a:xfrm>
            <a:off x="1143000" y="3352680"/>
            <a:ext cx="32767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B3B9-D9A6-432F-BA77-63E40F88F77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Errors in Nested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371600" y="5410080"/>
            <a:ext cx="640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able 6-7: Truth table for version 1 and version 2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7693200" cy="18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336A-2CC1-4274-A5E0-4F951C9C0C0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Errors in Nested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braces removed, Java pairs the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el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ith closest preceding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an create logic or syntax errors if not careful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an you spot the error in the following code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2971800" y="4648320"/>
            <a:ext cx="320040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12B4-6B12-4F0C-B22C-D609A146C45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Errors in Nested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tter to over-use braces than under-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der of conditions often important in extend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nstru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an you spot the logic error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2286000" y="4800600"/>
            <a:ext cx="45720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8FAF-4B22-4B75-978C-FCFA998674F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Errors in Nested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voiding nest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 can improve clarity, as i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90720" y="3428640"/>
            <a:ext cx="74642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(90 &lt;= average ) grade is A;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(80 &lt;= average &amp;&amp; average &lt; 90) grade is B;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(70 &lt;= average &amp;&amp; average &lt; 80) grade is C;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(60 &lt;= average &amp;&amp; average &lt; 70) grade is D;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( average &lt; 60) grade is F;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8E82-0E8F-4473-A637-F3BED26420B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 in a comprehensive mann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 nested loop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ppropriate test cases for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 and loop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the purpose of assertions, invariants, and loop verific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DE20-A999-4F2D-92A1-9161B70D007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sted Loo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loop within another lo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2286000" y="3352680"/>
            <a:ext cx="457200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039E-0BD5-4F96-8DBE-52F91780DC2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sting Loo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ps increase difficulty of test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Often do not iterate some fixed number of time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esign test data to cover situation where loop iterates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Zero time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One time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Multiple time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3F97-EED8-41D4-9313-5A2C013C5D4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sting Loop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6858000" cy="14572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914400" y="594360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able 6-10: Test data for the count divisors progra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2"/>
          <a:stretch/>
        </p:blipFill>
        <p:spPr>
          <a:xfrm>
            <a:off x="2286000" y="2362320"/>
            <a:ext cx="4572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ED7D-E7A6-46C7-9275-64603BF1FB1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sting Loop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binatorial Explosion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ing test data to verify multiple dependant components can result in huge amount of test da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3 dependent components, each of which requires 5 tests to verify functionalit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Total number of tests to verify entire program is 5*5*5=125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3BE4-9D7B-4E61-9346-AF0E473F14F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sting Loop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obust program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lerates errors in user inputs and recovers gracefu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st and easiest way to write robust programs is to check user inputs immediately on entr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Reject invalid user inputs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4191-5815-47BF-BCC6-DA4B6FF44F3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 Verif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ess of guaranteeing that a loop performs its intended ta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ndependently of testing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assert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statement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lows programmer to evaluate a Boolean expression and halt the program with an error message if the expression’s value is fal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General form: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assert &lt;Boolean expression&gt;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AEB3-E348-4BE6-84B4-D5C8A35F5AD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 Verification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enable when running the progra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java -enableassertions AJavaProgram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990720" y="563868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xample 6.1: Assert that x != 0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457200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1E7C-7D04-4DC7-80BD-46852488842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 Verification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914400" y="518148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6-6: Failure of an </a:t>
            </a: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assert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statemen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2" name="Picture 5" descr="Fig06-06"/>
          <p:cNvPicPr/>
          <p:nvPr/>
        </p:nvPicPr>
        <p:blipFill>
          <a:blip r:embed="rId1"/>
          <a:stretch/>
        </p:blipFill>
        <p:spPr>
          <a:xfrm>
            <a:off x="1828800" y="2895480"/>
            <a:ext cx="5486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D53A-D4F9-4420-87F3-C9341F12651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 Verification: Assertion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th Loo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put assertions: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what can be expected to be true before a loop is ente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utput assertions: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what can be expected to be true when the loop is exi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7" name="Picture 4" descr="Tbl06-12"/>
          <p:cNvPicPr/>
          <p:nvPr/>
        </p:nvPicPr>
        <p:blipFill>
          <a:blip r:embed="rId1"/>
          <a:stretch/>
        </p:blipFill>
        <p:spPr>
          <a:xfrm>
            <a:off x="1752480" y="4495680"/>
            <a:ext cx="579132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6"/>
          <p:cNvSpPr/>
          <p:nvPr/>
        </p:nvSpPr>
        <p:spPr>
          <a:xfrm>
            <a:off x="762120" y="58672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able 6-12: Sums of the proper divisors of some integer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65C6-8326-409F-ABD7-5016FB16084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 Verification: Assertion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th Loop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m proper divisors of positive integ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5486400" cy="9144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6"/>
          <p:cNvSpPr/>
          <p:nvPr/>
        </p:nvSpPr>
        <p:spPr>
          <a:xfrm>
            <a:off x="914400" y="3962520"/>
            <a:ext cx="80773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put assertio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num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is a positive integer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divisorSum == 0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put assert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divisorSum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is sum of all proper divisors of 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num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D76C-EB7B-4502-941B-B9C652FB9F0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ithmetic overfl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undary cond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binatorial explo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lete code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quivalence 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tend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414A-06B7-4FCD-8EA7-9B767FD3CD0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 Verification: Invariant and Variant Asser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oop invariant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ertion that expresses a relationship between variables that remains constant throughout all loop ite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oop variant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ertion whose truth changes between the first and final ite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tated so that it guarantees the loop is exited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ually occur in p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9680-59AD-4127-9C2A-A3298C4013B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 Verification: Invariant and Variant Asser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447920" y="2514600"/>
            <a:ext cx="64148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D876-A40B-4C88-8B27-8BD3351C25F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phics and GUIs: Timer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Anim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nimation, slightly different frames are displayed in order at a rapid ra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Produces illusion of continuous movemen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ing objects hav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Velocity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Distance (in pixels) traveled in a given unit of time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irection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187A-38F1-4D69-8698-2917C6FB4B2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phics and GUIs: Timer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Anima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762120" y="56386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6-7: Representing directions in two dimension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4864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7260-5499-47D4-8445-4F67FA96633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phics and GUIs: Timer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Anima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gorithm for animating a graphical objec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4572000" cy="9903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6"/>
          <p:cNvSpPr/>
          <p:nvPr/>
        </p:nvSpPr>
        <p:spPr>
          <a:xfrm>
            <a:off x="914400" y="4724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provides 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im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 to schedule events at regular interva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Slide Number Placeholder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90B4-AD84-4EB2-B50A-46818E505D3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phics and GUIs: Timer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Anima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r for animations is an instance of the class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Tim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5486400" cy="6858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1828800" y="4876920"/>
            <a:ext cx="54864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BD4E-AE3F-43EC-ADFE-86F6638E260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phics and GUIs: Timer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Anima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762120" y="56386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able 6-15: Some commonly used </a:t>
            </a: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Timer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method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8" name="Picture 5" descr="Tbl06-15"/>
          <p:cNvPicPr/>
          <p:nvPr/>
        </p:nvPicPr>
        <p:blipFill>
          <a:blip r:embed="rId1"/>
          <a:stretch/>
        </p:blipFill>
        <p:spPr>
          <a:xfrm>
            <a:off x="914400" y="2590920"/>
            <a:ext cx="731520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321D-ECA2-43DA-A865-D2FA4DE7296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ign, Testing, and Debugging H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errors involving selection statements and loops are not syntax errors caught at compile 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presence or absence of braces can seriously affect the logic of a selection statement or loo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BE1D-B5EA-4E50-A663-DD10E753214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ign, Testing, and Debugging Hi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testing programs with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-els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ments, use data that force the program to exercise all logical branch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testing programs with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, formulate equivalence classes, boundary conditions, and extreme condi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an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rather than two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 when the alternative courses of action are mutually exclus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0366-01F3-4279-93E3-9C0F54CD149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ign, Testing, and Debugging Hi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testing a loop, use limit values as well as typical valu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ck entry and exit conditions for each loo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a loop with errors, use debugging output statements to verify the control variable’s value on each pass through the loo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heck value before the loop is initially entered, after each update, and after the loop is exited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CACC-C10C-4152-B921-650B3B67482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treme cond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put asser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gical opera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p invari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p vari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st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EECB-E7E7-43EF-AAB6-7EF4454362A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omplex Boolean expression contains one or more Boolean expressions and the logical operators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&amp;&amp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AND),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||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OR), an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!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NO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truth table can determine the value of any complex Boolean express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uses short-circuit evaluation of complex Boolean express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D33A-2204-4BB9-A273-C37C39EECAA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st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 are another way of expressing complex condi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nest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can be translated to an equivalent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that uses logical operato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extended or multiway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expresses a choice among several mutually exclusive alternativ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A80B-769D-4959-9AD2-A62708E21E2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ps can be nested in other loop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quivalence classes, boundary conditions, and extreme conditions are important features used in tests of control structures involving complex condi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ps can be verified to be correct by using assertions, loop variants, and loop invaria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C9E5-2674-42EB-BF09-BA5827F38EF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sted lo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put asser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bu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uth 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AD5C-C6B0-4F70-8AB7-24530705BCB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d in Boolean expressions that control the behavior of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ree logical operato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OR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NO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combine smaller logical expressions into larger 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E6C5-F9AA-428D-98DF-77D34C2833A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ruth table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 complex logical expressions, shows how value of overall condition depends on values of oper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l combinations of values considered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i="1" lang="en-US" sz="2500" spc="-1" strike="noStrike" baseline="30000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combinations of true and false for </a:t>
            </a:r>
            <a:r>
              <a:rPr b="0" i="1" lang="en-US" sz="25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operand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0463-22A1-4B4D-A937-660C11B7B45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90720" y="601992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able 6-1: Truth tables for three example sentenc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8942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1:47:29Z</dcterms:created>
  <dc:creator/>
  <dc:description/>
  <dc:language>en-US</dc:language>
  <cp:lastModifiedBy>End User</cp:lastModifiedBy>
  <dcterms:modified xsi:type="dcterms:W3CDTF">2010-01-15T15:54:51Z</dcterms:modified>
  <cp:revision>92</cp:revision>
  <dc:subject/>
  <dc:title>Chapter 6 Control Statements Continued</dc:title>
</cp:coreProperties>
</file>