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9A1-780E-44E9-BE3D-D64F72271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2774-D168-447B-8428-FB6CE18EF8B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B66F-6C83-42C5-A804-CAEAE03C573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120-E579-4527-A3FA-8BF8B652FA1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0CF0-9C7C-44AC-80AC-8C354223BD4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B2E5-079C-4EEA-B050-5F89997EE68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4B9-4FF0-457A-966D-C5CF2AC78E6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C99D-8294-4C07-9EA0-AF9DBB766FC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4F28-1936-49AF-900F-0A00504754E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14DA-A4B6-4F3D-A7B3-5CD03217D5A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67EA-3419-4335-AA43-A6621DE4174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935-ED75-433A-A958-623BDBDF688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430C-B7DB-4767-BF5F-0F325CA028D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622-0C11-4C95-819E-145F1651BB3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23A6-542A-46FD-89A5-B47EFEFCBB7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D54-3E4F-4F01-978A-ECC53D0FA3A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0AB7-9FCC-4773-A80F-598C1C5EBA5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7ABE-95EF-4B92-BF6A-09B9963CA5F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307-B921-47FE-B7B8-5FC594D27C5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89F-6B48-4924-A0B1-51EA9EA52DB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B58E-821E-42B6-B6F1-5074EBEF626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D075-0A7E-43C9-A491-C69AD4F25DC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910D-F433-4F55-B023-9E81E8C4E23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82EF-2EAF-4E44-81F2-F2273D62BC4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77FB-45DE-4934-948D-8E3EED7717F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D2EB-43A3-4955-BC6E-9C3FC3ED49B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146F-403F-4401-A24E-AD1E59F9F4D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84EB-171B-4F84-A108-E82E3770C23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1C5-1185-4AD8-891F-D2A1809D2E5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F837-EEB1-468F-9AFA-4FA2B4A798D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792-D70D-454C-A531-278E0C90A89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95BC-551F-4E75-A86E-296D749F955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EF9A-2A93-4A93-9F98-7242AB57875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EBD7-6D39-4659-A580-FCCCAE42C9D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D18-44A8-4D03-92B9-5F67BAC730D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B2AF-85EC-4889-8052-A373C5EBFC0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C63-3E78-441E-BB51-1A149F0AB63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2F11-1151-4E4F-81F6-D93E04DDADD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B143-E78B-48EA-992C-C32A267A304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BA7-AF02-4F19-B394-761FD7E15C1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E8F-89C8-484F-9CA6-04986695EF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B95-A939-4F46-A54D-E84622970C2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1247-8C0B-463E-BA42-A741913C1F3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69EB-D9DB-4B5C-9175-7F528DDEB7C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B4D9-0923-4DF1-8CAB-1F1DA6B46EC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8BF-7FF3-4456-952F-C29AFB7155F5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663A-E798-487E-AA6A-E3998050C72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DD9-9526-47C3-9F0C-C896493E7B9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5BEB-5A98-4289-907B-2E75173BB37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0EB7-6B22-476A-9D51-2CC7258BD5D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F83C-CAAF-4555-A917-26404C2D266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19B-DF5D-4A95-BAC2-94D9E7768A5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3647-DE4A-4D3D-8E72-0121D019BB4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090-9ED3-4940-9B2C-C9AC88B3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39C-5F4A-4C39-9245-B6DCAA88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43F-A053-409B-B19D-2FBBD5B2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AB7-A3EC-4A2F-82BC-663C9828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F599-AA1C-4CE0-A1AC-465D5C6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5247-A066-42FE-AF57-83150AA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719-94CC-483C-B860-988FB80E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E466-C10D-455F-AB13-8CA0F421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3292-849C-4BCB-890C-790EABA2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4DA4-E19C-4DA7-BD17-A11FC599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66E8-BDDC-479F-8D2F-107341ED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F3C-9641-4A7A-BDAA-BB8B84FC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CB9C-0904-4E2A-9439-B3CB010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267D-A46F-4946-B288-5BC2887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4C69-606D-41C4-BBF5-5ABAE5E5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B64-228B-4250-BAD2-E3D216A9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205C-4BAA-4536-BFAB-EFCB818A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01A-B26C-4076-AC26-057885CA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9DF-C282-4A56-A4BA-AB615FF6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36C-5444-4BE8-B750-312C4D15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AA4-BB1B-4500-B57A-09D0B3FB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85F-AFF8-4BB8-B74C-B29628D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CAB-C608-44EE-979E-DC1A26C1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1F-3FAA-4D89-82F0-0963AB95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C90-62E5-4DC3-88F4-8B31A83F32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Fundamentals of Java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0C50-A7A7-47DC-BEE7-2DB8E4BBAD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6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ontrol Statements Continued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657600" y="2927160"/>
            <a:ext cx="5029200" cy="19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24B7-BB9A-4C0E-9F70-015486C1BB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990720" y="53341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2: General rules for AND, OR, and NO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6400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4060-AA32-4785-902B-B6BA5E8E14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use parentheses with complex expr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(the sun is shining AND it is 8 a.m.) OR (NOT your brother is visiting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f the sun is shining AND (it is 8 a.m. OR (NOT your brother is visiting)) then let’s go for a walk else let’s stay at hom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s would clarify these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F23E-9689-45A5-964B-68B75963BC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’s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T: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edence ru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s same precedence as other unary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nly have higher precedence than the assignment operato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has higher precedence th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||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85E5-6046-43FD-A1B4-7DE339CFC3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54" name="Group 11"/>
          <p:cNvGrpSpPr/>
          <p:nvPr/>
        </p:nvGrpSpPr>
        <p:grpSpPr>
          <a:xfrm>
            <a:off x="2286000" y="2971800"/>
            <a:ext cx="4571640" cy="3276360"/>
            <a:chOff x="2286000" y="2971800"/>
            <a:chExt cx="4571640" cy="3276360"/>
          </a:xfrm>
        </p:grpSpPr>
        <p:pic>
          <p:nvPicPr>
            <p:cNvPr id="155" name="Picture 4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2286000" y="2971800"/>
              <a:ext cx="4571640" cy="101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2286000" y="3951720"/>
              <a:ext cx="4491000" cy="2296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D36-8B27-45DE-9EDF-F895943C9A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olean vari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have value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data type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boolean b1 = true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 ( b1 ) {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&lt;do something&gt;</a:t>
            </a:r>
            <a:br>
              <a:rPr sz="2300"/>
            </a:b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}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01C6-EC49-4A92-8085-3438D0CD1DF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reak down complex Boolean expressions into a series of simpl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ful equivalenc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||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&amp;&amp;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(p &amp;&amp; q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!p || !q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|| (q &amp;&amp;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|| q) &amp;&amp; (p ||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p &amp;&amp; (q || r)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(p &amp;&amp; q) || (p &amp;&amp; r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3019-9FEF-4384-B8A5-8ED9312B07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rt-circuit evaluat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VM may know result of a Boolean expression before evaluating all of its pa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ops evaluation as soon as result is know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if( true || false 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Entire condit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 because first operand of the Boolean expression is </a:t>
            </a: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tru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Second operand not examined at all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B70-4063-4F6C-9F8A-16EB2B8F7D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Quality assurance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going process of making sure that a software product is developed to the highest standards possibl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ubject to the constraints of time and mone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try to achiev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line in a program executed at least onc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4A62-D65E-4025-B1E4-89CEAB3EDC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sets of test data that exercise a program in the same manner belong to sam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est same paths through the 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should include cases that assess program’s behavior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undary condi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n or near boundaries between equivalence class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9319-F279-488B-BABF-77B32742DE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und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reme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data at the limits of valid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data validation ru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ter values that are valid and invalid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boundary values between the tw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995-22D0-42ED-BCE3-0D056A708C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complex Boolean expressions using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truth tables for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logic of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22A-37E2-458E-BD03-51A2EB083E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c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ithin othe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ernative to using logical oper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2004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9C3-0BB9-4D86-9A42-28BF91366C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295280" y="55627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6: Truth table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7540560" cy="13352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838080" y="2362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reverse is also true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1C3B-8458-483A-A8A6-68095CF2EA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219320" y="5715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4: Flowchart for reading a book, watching TV, or going for a walk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00400" y="2438280"/>
            <a:ext cx="27432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FE0-8823-4797-83F9-E5BEB3CAAE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90920" y="2895480"/>
            <a:ext cx="37702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50E-2EAC-4C7F-87C7-6E570B9651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6" name="Group 23"/>
          <p:cNvGrpSpPr/>
          <p:nvPr/>
        </p:nvGrpSpPr>
        <p:grpSpPr>
          <a:xfrm>
            <a:off x="2286000" y="3200400"/>
            <a:ext cx="4571280" cy="2742840"/>
            <a:chOff x="2286000" y="3200400"/>
            <a:chExt cx="4571280" cy="2742840"/>
          </a:xfrm>
        </p:grpSpPr>
        <p:pic>
          <p:nvPicPr>
            <p:cNvPr id="207" name="Picture 15" descr=""/>
            <p:cNvPicPr/>
            <p:nvPr/>
          </p:nvPicPr>
          <p:blipFill>
            <a:blip r:embed="rId1"/>
            <a:stretch/>
          </p:blipFill>
          <p:spPr>
            <a:xfrm>
              <a:off x="2376360" y="3200400"/>
              <a:ext cx="4480920" cy="157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1" descr=""/>
            <p:cNvPicPr/>
            <p:nvPr/>
          </p:nvPicPr>
          <p:blipFill>
            <a:blip r:embed="rId2"/>
            <a:stretch/>
          </p:blipFill>
          <p:spPr>
            <a:xfrm>
              <a:off x="2286000" y="4743720"/>
              <a:ext cx="3713040" cy="1199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022-AD51-4620-AABB-4559B75C9B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placed braces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221280" cy="1600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2"/>
          <a:stretch/>
        </p:blipFill>
        <p:spPr>
          <a:xfrm>
            <a:off x="1143000" y="335268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E5A-51EF-4F2B-ADF7-76A5AE1BA3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371600" y="541008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7: Truth table for version 1 and version 2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69320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94E-F2AA-428C-9CFA-278C8A6FF08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braces removed, Java pairs th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closest preceding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create logic or syntax errors if not carefu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error in the following code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971800" y="4648320"/>
            <a:ext cx="32004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D602-B049-4FDB-B6EC-AAC33F4820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ter to over-use braces than under-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der of conditions often important in 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tr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you spot the logic error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30ED-49BB-42F8-837B-9B1620D94F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Errors in Nested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if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Stateme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ing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can improve clarity, as 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3428640"/>
            <a:ext cx="7464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90 &lt;= average ) grade is A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80 &lt;= average &amp;&amp; average &lt; 90) grade is B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70 &lt;= average &amp;&amp; average &lt; 80) grade is C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60 &lt;= average &amp;&amp; average &lt; 70) grade is D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if 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( average &lt; 60) grade is F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0D0-1879-4974-A7F2-435B706416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in a comprehensive mann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 neste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ppropriate test cases f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nd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purpose of assertions, invariants, and loop verific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3392-3C4F-4FFC-A962-E08A6DBB47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sted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loop within another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286000" y="3352680"/>
            <a:ext cx="45720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F09B-0F09-4FCF-8468-FC83891DA3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increase difficulty of tes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Often do not iterate some fixed number of tim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sign test data to cover situation where loop iterate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Zero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One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Multiple time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0AB6-ACAB-44A2-9C3D-3C9B79E573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5800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91440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0: Test data for the count divisor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2286000" y="2362320"/>
            <a:ext cx="4572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519-B342-4D01-A0CC-A0C5426636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binatorial Explosion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test data to verify multiple dependant components can result in huge amount of test da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3 dependent components, each of which requires 5 tests to verify functionalit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Total number of tests to verify entire program is 5*5*5=125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3AA0-CDB9-45B0-B7F9-AE5DE679B1A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sting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bust program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lerates errors in user inputs and recovers grac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 and easiest way to write robust programs is to check user inputs immediately on ent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Reject invalid user inpu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C49-5C36-4747-8BC5-F0484D57398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 of guaranteeing that a loop performs its intended 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Independently of test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tatemen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lows programmer to evaluate a Boolean expression and halt the program with an error message if the expression’s value is fa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General form: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Courier New"/>
              </a:rPr>
              <a:t>assert &lt;Boolean expression&gt;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43A6-DD54-48CC-ADB5-A2CC3CB15A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enable when running the prog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java -enableassertions AJavaProgra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990720" y="56386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6.1: Assert that x != 0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457200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2F97-B47C-4245-9B32-39BB5274E9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914400" y="51814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6: Failure of an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ssert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2" name="Picture 5" descr="Fig06-06"/>
          <p:cNvPicPr/>
          <p:nvPr/>
        </p:nvPicPr>
        <p:blipFill>
          <a:blip r:embed="rId1"/>
          <a:stretch/>
        </p:blipFill>
        <p:spPr>
          <a:xfrm>
            <a:off x="1828800" y="2895480"/>
            <a:ext cx="5486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C76-DC6B-491D-8D49-ABF7EFE8F68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before a loop is ent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utput assertions: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 what can be expected to be true when the loop is exi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Picture 4" descr="Tbl06-12"/>
          <p:cNvPicPr/>
          <p:nvPr/>
        </p:nvPicPr>
        <p:blipFill>
          <a:blip r:embed="rId1"/>
          <a:stretch/>
        </p:blipFill>
        <p:spPr>
          <a:xfrm>
            <a:off x="1752480" y="4495680"/>
            <a:ext cx="579132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6"/>
          <p:cNvSpPr/>
          <p:nvPr/>
        </p:nvSpPr>
        <p:spPr>
          <a:xfrm>
            <a:off x="762120" y="58672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2: Sums of the proper divisors of some intege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A458-5762-4537-8E3B-2A9EE36CC9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Assertion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th Loop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 proper divisors of positive integ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9144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914400" y="396252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a positive integ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 == 0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divisorSum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is sum of all proper divisors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m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183C-E60B-4C7D-B199-BB209B32A6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ithmetic overf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undary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binatorial explo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e code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E1A0-A322-4BA3-9669-AE9B0AA04D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in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that expresses a relationship between variables that remains constant throughout all loop it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op variant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rtion whose truth changes between the first and final ite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tated so that it guarantees the loop is exit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 occur in p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DD3-9B94-4484-A255-AA30DB36600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 Verification: Invariant and Variant Asser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447920" y="2514600"/>
            <a:ext cx="64148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3BBA-FA37-42D2-A857-B2CE939FF7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nimation, slightly different frames are displayed in order at a rapid r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oduces illusion of continuous movemen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ng objects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Velocit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stance (in pixels) traveled in a given unit of tim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irec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EF79-503D-42BD-9F95-92CAA2A364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6-7: Representing directions in two dimensio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6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5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635-A024-4D62-9D0B-BFDDE1618C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gorithm for animating a graphical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572000" cy="9903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6"/>
          <p:cNvSpPr/>
          <p:nvPr/>
        </p:nvSpPr>
        <p:spPr>
          <a:xfrm>
            <a:off x="914400" y="4724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provide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bject to schedule events at regular interv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6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Slide Number Placeholder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600-6309-4413-8A96-5BE702AC32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r for animations is an instance of the clas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5486400" cy="685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2"/>
          <a:stretch/>
        </p:blipFill>
        <p:spPr>
          <a:xfrm>
            <a:off x="1828800" y="4876920"/>
            <a:ext cx="5486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1620-9798-4191-AE4E-C969B631518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phics and GUIs: Timer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Anim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62120" y="56386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5: Some commonly us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ime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ethod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Picture 5" descr="Tbl06-15"/>
          <p:cNvPicPr/>
          <p:nvPr/>
        </p:nvPicPr>
        <p:blipFill>
          <a:blip r:embed="rId1"/>
          <a:stretch/>
        </p:blipFill>
        <p:spPr>
          <a:xfrm>
            <a:off x="914400" y="2590920"/>
            <a:ext cx="73152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023-13AF-407A-9243-85C4D83D864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errors involving selection statements and loops are not syntax errors caught at compil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resence or absence of braces can seriously affect the logic of a selection statement or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1D7-920C-4DF7-A8A2-AF528359F1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ements, use data that force the program to exercise all logical bran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programs with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, formulate equivalence classes, boundary conditions, and extreme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n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rather than two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when the alternative courses of action are mutually exclus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5776-44A7-4D28-AE74-AF57759F40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testing a loop, use limit values as well as typical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eck entry and exit conditions for each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 loop with errors, use debugging output statements to verify the control variable’s value on each pass through the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heck value before the loop is initially entered, after each update, and after the loop is exi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98C-0E93-45E8-A19D-30DA66ADAE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reme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oper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in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 vari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6EE-6FEF-4B02-AB11-890D147172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mplex Boolean expression contains one or more Boolean expressions and the logical operator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ND)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OR)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NO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ruth table can determine the value of any complex Boolean expres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va uses short-circuit evaluation of complex Boolean expres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A5B-3B82-4EEC-A44D-67701A8DC8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 are another way of express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nest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can be translated to an equivalent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that uses logical operat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tended or multiway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 expresses a choice among several mutually exclusive alternativ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1F4-4549-4776-9AB9-D6261FC6CB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nested in other loo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quivalence classes, boundary conditions, and extreme conditions are important features used in tests of control structures involving complex condi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ps can be verified to be correct by using assertions, loop variants, and loop invaria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4BB6-BDFE-4896-B48B-568ADC62E0D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sted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put asser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th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C077-2CF1-45B3-9932-6774EA9C7EC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in Boolean expressions that control the behavior of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ree logical operato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66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ombine smaller logical expressions into larger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60A-4FD5-4E3F-AF9C-DEF6541D5FF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ruth tabl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complex logical expressions, shows how value of overall condition depends on values of oper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l combinations of values considered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500" spc="-1" strike="noStrike" baseline="30000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combinations of true and false for </a:t>
            </a:r>
            <a:r>
              <a:rPr b="0" i="1" lang="en-US" sz="25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operand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ndamentals of Java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0E2-9DD8-4873-B05C-5E21EE5A2D7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gical Operator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90720" y="601992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able 6-1: Truth tables for three example sentenc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894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End User</cp:lastModifiedBy>
  <dcterms:modified xsi:type="dcterms:W3CDTF">2010-01-15T15:54:51Z</dcterms:modified>
  <cp:revision>92</cp:revision>
  <dc:subject/>
  <dc:title>Chapter 6 Control Statements Continued</dc:title>
</cp:coreProperties>
</file>