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D36-D140-4863-8CBA-E9495740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25D-314B-4079-A58D-C2E517F8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973-0779-4D03-8B04-64A98F86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F8F-4D39-4674-82B3-B4840CE1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5076-5506-4B61-9599-2A1A1A14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E305-F130-478C-899C-E6EB7A07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E8C3-1F2B-4B0E-86A0-A52B1D97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927D-B834-4B9A-88C5-131CE2F0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6001-1A7D-4CFB-8DF2-CE99E47C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5731-4BAE-46E1-951A-DC533564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24AD-7B06-4168-B2C1-53049026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D24-C6D0-405E-8371-B01A31D5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B223-D472-4DE4-9EA8-4C79A7F6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F5EE-0584-45B8-AFEA-558851BE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173F-41AA-4183-9078-EB39C7F0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EE06-8806-4268-B556-80F3A267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C23A-2224-4097-8443-0BA64CDC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B89-C517-4FCE-97B4-D0EC9374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88D-F358-4A24-9D2F-21B16EE1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135-4997-454C-88FF-5A12954D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C17-9214-411A-B011-9A137D8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E22-3EA8-46E4-B587-E7E168C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466-55D8-47F8-BC76-8BCCAC6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08B-AE1E-469F-9F1B-CC66A422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933A-CED2-46DA-AE67-9FC180C8675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9B3D-8731-4E0C-85D1-6EE4F8E3A9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troduction to Array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81280" y="2927160"/>
            <a:ext cx="51055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damentals of Jav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Array Manipul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3276720"/>
            <a:ext cx="7462800" cy="2352600"/>
            <a:chOff x="914400" y="3276720"/>
            <a:chExt cx="7462800" cy="2352600"/>
          </a:xfrm>
        </p:grpSpPr>
        <p:pic>
          <p:nvPicPr>
            <p:cNvPr id="117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914400" y="3276720"/>
              <a:ext cx="741384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963720" y="3564000"/>
              <a:ext cx="73692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>
              <a:lum bright="-6000"/>
            </a:blip>
            <a:stretch/>
          </p:blipFill>
          <p:spPr>
            <a:xfrm>
              <a:off x="963720" y="4249800"/>
              <a:ext cx="741348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4">
              <a:lum bright="-6000"/>
            </a:blip>
            <a:stretch/>
          </p:blipFill>
          <p:spPr>
            <a:xfrm>
              <a:off x="963720" y="5392800"/>
              <a:ext cx="741348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1C5-D209-461E-B5A0-8480F5D4B7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Array Manipul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Range-bound error: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Referring to a non-existent array index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ArrayIndexOutOfBoundsExcep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row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abc[-1] = 48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abc[500] = 48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nterchanging adjacent array elements: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5181480"/>
            <a:ext cx="6694560" cy="1218960"/>
            <a:chOff x="1143000" y="5181480"/>
            <a:chExt cx="6694560" cy="1218960"/>
          </a:xfrm>
        </p:grpSpPr>
        <p:pic>
          <p:nvPicPr>
            <p:cNvPr id="124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1143000" y="5790960"/>
              <a:ext cx="66945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1143000" y="5181480"/>
              <a:ext cx="6694560" cy="59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72C-8604-446D-A549-0ED5BF0140A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ing Through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loop to iterate through each element in an array is a common tas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Loop counter used as array index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 applications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um the elements of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ount occurrences of a value in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arch for a value in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ind first occurrence of a value in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68A-472D-4534-897C-732EFB3AF54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ing Through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rray’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tance variable yields the size of the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of loop structure for looping through an array of any siz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4800600"/>
            <a:ext cx="45720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491-0C6E-4968-9130-A4028563AC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instantiated before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laration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int[] abc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ntiation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abc = new int[5]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riat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int[] abc = new int[5]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int[] abc = new int[5], xyz = new int[10]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3E9-5F51-467A-A227-B064C891306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arrays are objects, all rules that apply to objects apply to arr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wo array variables may refer to same arra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rrays may be garbage collect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rray variables may be set to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ll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rrays are passed by reference to method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6BA-600E-4CC9-A6F8-84E628A3279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of two array variables pointing to same array obj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14400" y="3657600"/>
            <a:ext cx="7862760" cy="14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0B7-78E9-408A-819A-9E0B424C363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5486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2: Two variables can refer to the same array objec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554560" cy="26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8FB-A5F3-44FA-95C5-6CA570BB6CF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can be declared, instantiated, and initialized using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itializer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7729560" cy="270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14400" y="4191120"/>
            <a:ext cx="7693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can contain collections of similar it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rimitive or reference typ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set, the size of an array is fix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6FB-22E7-4119-A842-2F11BA762B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981080" y="2895480"/>
            <a:ext cx="498312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2BF8-842B-4335-8C54-FEEAB4E0102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programs that handle collections of similar it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e array variables and instantiate array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ipulate arrays with loops, including the enhanc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76C-6CE4-4225-A0DB-AF643307913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with Arrays That Ar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 Fu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n array is instantiated, it is filled with default val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pplication might not fill all ce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ysical siz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maximum number of elements that an array can co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gical siz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actual number of elements stored in an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846-5642-4E03-BA3F-3801486F146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with Arrays That Ar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 Full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ork with arrays that are not full, the programmer must track the logical array siz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clare an integer counter that will always indicate the number of elemen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very time an element is added or removed, adjust the counter accordingl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counter indicates the logical size of the array and the next open position in the arra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088-47F5-4C84-8407-6D8E8125F2F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with Arrays That Ar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 Full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ing an array that is not ful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295280" y="2895480"/>
            <a:ext cx="66294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38080" y="4800600"/>
            <a:ext cx="769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ng an el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895480" y="5334120"/>
            <a:ext cx="2824200" cy="9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298-013E-4BF8-A0DD-2668DA6E9D3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allel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or more arrays of the same size that store complementary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one array stores first names and a second stores corresponding a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640080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CEB-273B-4EBC-B3CF-C80930D5F93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array discussed so far i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ne-dimension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sualized as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items or val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may have multiple dim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-dimensional arrays can be visualized a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ab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rows and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“array of array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ach element of a one-dimensional array contains another arra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E2F-87CF-4DAC-AA2A-B7C393A4E47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51055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3: Two-dimensional array with four rows and five colum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486400" cy="19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E6F-8D76-42C3-9891-FB93E479139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ing and instantiating a two-dimensional array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71600" y="3886200"/>
            <a:ext cx="640080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0AC-1169-420D-9EB2-8992BFAB8E0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54100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4: Another way of visualizing a two-dimensional arra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576760" cy="29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F2B0-A6AF-4C8E-9B68-52C06416536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oping through a two-dimensional array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828800" y="3733920"/>
            <a:ext cx="54864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550-9E10-439F-8BCA-9E1C3DD49BB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izer lists for two-dimensional array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5486400" cy="1219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14400" y="43434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ows in a two-dimensional array may have varying length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gged arr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F97-2C71-4837-B87E-1A91A3C97AB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methods to manipulate arr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parallel arrays and two-dimensional arr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3F8-8C09-4997-B4C7-5B0D0A997E8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Enhanc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Loo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d in Java 5.0 to simplify loops in which each element in an array is acces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rom the first index to the las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rees programmer from having to manage and use loop counter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5410080"/>
            <a:ext cx="6400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BC0-D4CE-4181-AB92-8202BBAE574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Enhanc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Loop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9436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xample 9.3: Testing the enhanced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loop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14600" y="2438280"/>
            <a:ext cx="4114440" cy="3428640"/>
            <a:chOff x="2514600" y="2438280"/>
            <a:chExt cx="4114440" cy="3428640"/>
          </a:xfrm>
        </p:grpSpPr>
        <p:pic>
          <p:nvPicPr>
            <p:cNvPr id="184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2514600" y="2438280"/>
              <a:ext cx="4114440" cy="14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2514600" y="3859200"/>
              <a:ext cx="4114440" cy="200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FD92-C23C-4E5F-A6F1-14AB37FA81A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Enhanc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Loop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not be used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Move through an array in reverse, from the last position to the first positio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ssign elements to positions in an arra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rack the index position of the current element in an arra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ccess any element other than the current element on each pas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FAE-0C2C-4873-BDD9-9AE450756A4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and 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arrays are objects, they are passed by reference to meth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method manipulates the array itself, not a cop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hanges to array made in the method exist after method is complet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ethod may create a new array and return i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70C-79BD-4F09-8DE9-71255724F41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and Method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 to search for a value in an arr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114800" cy="1295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4191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 to sum the rows in a 2-D arr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4724280"/>
            <a:ext cx="4114800" cy="16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59B-B1B9-4B7D-A029-767AE438811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and Method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2819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 to make a copy of an array and return i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962520" y="2819520"/>
            <a:ext cx="38098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DAF-2F66-4D66-A7B7-858E851ABEF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of Obj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can hold references to objects of any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en instantiated, each cell has a value of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ll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828800" y="4952880"/>
            <a:ext cx="548640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AB9-E79E-4BAB-94FB-A5BFC48E5EA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Design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UML diagrams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: Industry standard for designing and representing a set of interacting classe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Structure charts: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May be used to depict relationships between classes and the order of methods called in a program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cedural decomposition: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Technique of dividing a problem into sub-problems and correlating each with a method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B76-4D83-4B0C-BDF5-C28D74FC69F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Design Techniqu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55627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6: UML diagram of the classes in the student test scores progra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943600" cy="281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D1D-DC74-4877-88B4-DE6A9DFDEB0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Design Techniqu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5257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7: Structure chart for the methods of class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TestScoresView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94360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BC2-B5DE-40A7-B1DF-9388C76C38B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hanc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izer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ical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ECD-BA9A-4136-9293-01851611229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reate an arr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lare an array vari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ntiate an array object and assign it to the array vari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ize the cells in the array with data, as appropri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creating a new array object, try to determine an accurate estimate of the number of cells requi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EDF-7293-4C13-B34C-30CF38A8DE3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that array variables ar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ntil they are assigned array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void index out-of-bounds errors, remember that the index of an array cell ranges from 0 (the first position) to the length of the array minus 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ccess the last cell in an array, use the expression </a:t>
            </a:r>
            <a:r>
              <a:rPr b="0" i="1" lang="en-US" sz="2800" spc="-1" strike="noStrike">
                <a:solidFill>
                  <a:srgbClr val="003366"/>
                </a:solidFill>
                <a:latin typeface="Courier New"/>
              </a:rPr>
              <a:t>&lt;array&gt;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.length – 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BE1-E952-4457-8E33-A2CB164A80A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having multiple array variables refer to the same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opy the contents of one array to another, do not us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A = B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tead, write a copy method and us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A = arrayCopy(B)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n array is not ful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rack the current number of element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void index out-of-bounds error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4F4-DC6A-4B20-A2B3-1194C00B3B8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collections of similar items or elements ordered by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useful when a program needs to manipulate many similar items, such as a group of students or a number of test sc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instanti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be referred to by more than one vari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4BE-EB9B-457F-8A14-632291631D3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rray can be passed to a method as a parameter and returned as a val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llel arrays are useful for organizing information with corresponding el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-dimensional arrays store values in a row-and-column arrang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DD6-EB50-4584-939B-F79A742BC80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nhanc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 is a simplified version of a loop for visiting each element of an array from the first position to the last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C32-CB6A-4EB5-BA37-505A87D64D91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dimensional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-dimensional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llel arra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dural decom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529-5ADB-4A5E-A1F1-E04BF22A13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gged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ge-bound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 ch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scri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-dimensional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162-A744-4C8B-B24E-4843A7F7E4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ual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8672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1: Three arrays, each containing five element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78204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458-26ED-4A59-BF0D-0E40FEB485F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ual Overview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ement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items in an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array elements have the same data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be primitive or reference typ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array has a fix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ng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siz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array element has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scrip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ppear within square brackets (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[]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46D-5D7A-4625-BB6A-A8AFE20879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Array Manipu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ing an array of 500 integ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int[] abc = new int[500]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 for referring to an array el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66"/>
                </a:solidFill>
                <a:latin typeface="Courier New"/>
              </a:rPr>
              <a:t>&lt;array name&gt;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[</a:t>
            </a:r>
            <a:r>
              <a:rPr b="0" i="1" lang="en-US" sz="2500" spc="-1" strike="noStrike">
                <a:solidFill>
                  <a:srgbClr val="003366"/>
                </a:solidFill>
                <a:latin typeface="Courier New"/>
              </a:rPr>
              <a:t>&lt;index&gt;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]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66"/>
                </a:solidFill>
                <a:latin typeface="Courier New"/>
              </a:rPr>
              <a:t>&lt;index&gt;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must be between 0 and the array’s length minus 1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script operator: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[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BFB-521C-4CFF-942D-A79663F9B7A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/>
  <dc:description/>
  <dc:language>en-US</dc:language>
  <cp:lastModifiedBy>Custom Editorial Productions</cp:lastModifiedBy>
  <dcterms:modified xsi:type="dcterms:W3CDTF">2006-01-20T18:42:29Z</dcterms:modified>
  <cp:revision>88</cp:revision>
  <dc:subject/>
  <dc:title>Chapter 9 Introduction to Arrays</dc:title>
</cp:coreProperties>
</file>