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26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763-40DF-4248-9B10-74EAF197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689-CA68-4D9C-93A8-39DF1F59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B16-E4B8-4050-90B0-F4A389B7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FA6-3F74-45F1-A348-A624EF6A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9211-DD1A-4A18-A54D-1AB7446B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09B1-F480-4F38-91B9-DB63918B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E931-D947-4545-9F4E-D0AC5211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B8C-91B2-422B-912C-348B3C2D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DD82-6493-43EC-B78B-29E8DD0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1F36-DFE1-4E7A-AC76-A2CCFDE8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C89-4BAF-4EA0-835D-70F119C3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E79-4B72-4A28-A8E4-9BCA204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9CBF-2FE1-4A04-942A-070FB4C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F381-AC55-495C-BFA1-254B04AE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5392-2C04-4915-9413-437C7E00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D6DF-93BF-4EA0-AE88-DE7898A7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18F-3006-4A29-8D87-704B30E2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BC4-2A83-43CC-B0EF-A2DD34A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669-2E65-40FE-8A92-11246D0F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013-CA85-48F0-AB08-BDA7FBEB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611-EAEB-4061-931D-60E7A849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90E-2F68-4915-8145-DF4652F1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A95-A05F-4C3F-8281-57E4061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234-818A-4FE5-966B-884E810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7C9B-D413-472E-BEF7-1D440780D28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2BA6-2EB7-42D5-B796-E8A0DCF297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Introduction to Arrays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581280" y="2927160"/>
            <a:ext cx="510552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undamentals of Jav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14400" y="3276720"/>
            <a:ext cx="7462800" cy="2352600"/>
            <a:chOff x="914400" y="3276720"/>
            <a:chExt cx="7462800" cy="2352600"/>
          </a:xfrm>
        </p:grpSpPr>
        <p:pic>
          <p:nvPicPr>
            <p:cNvPr id="117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914400" y="3276720"/>
              <a:ext cx="741384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963720" y="3564000"/>
              <a:ext cx="73692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963720" y="4249800"/>
              <a:ext cx="741348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>
              <a:lum bright="-6000"/>
            </a:blip>
            <a:stretch/>
          </p:blipFill>
          <p:spPr>
            <a:xfrm>
              <a:off x="963720" y="5392800"/>
              <a:ext cx="741348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F41-D064-4FD2-8428-A55FDC3211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Range-bound error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Referring to a non-existent array index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ArrayIndexOutOfBoundsExcep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row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bc[-1] = 48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abc[500] = 48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Interchanging adjacent array elements: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5181480"/>
            <a:ext cx="6694560" cy="1218960"/>
            <a:chOff x="1143000" y="5181480"/>
            <a:chExt cx="6694560" cy="1218960"/>
          </a:xfrm>
        </p:grpSpPr>
        <p:pic>
          <p:nvPicPr>
            <p:cNvPr id="124" name="" descr=""/>
            <p:cNvPicPr/>
            <p:nvPr/>
          </p:nvPicPr>
          <p:blipFill>
            <a:blip r:embed="rId1">
              <a:lum bright="-6000"/>
            </a:blip>
            <a:stretch/>
          </p:blipFill>
          <p:spPr>
            <a:xfrm>
              <a:off x="1143000" y="5790960"/>
              <a:ext cx="66945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1143000" y="5181480"/>
              <a:ext cx="6694560" cy="59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4B3-AAE7-4947-A852-EAFD2198D5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ing Through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ing a loop to iterate through each element in an array is a common tas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Loop counter used as array index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xample applications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um the elements of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ount occurrences of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arch for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ind first occurrence of a value in an arra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EC2-0418-48F5-9A42-7E3285BE36B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ping Through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rray’s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ance variable yields the size of the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f loop structure for looping through an array of any siz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4800600"/>
            <a:ext cx="457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0F2-580F-41A9-8394-218D5E53FC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instantiated before 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laration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ntiation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abc = new int[5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riatio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 = new int[5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int[] abc = new int[5], xyz = new int[10]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EDA-E763-4CD3-8216-03F584652BF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arrays are objects, all rules that apply to objects apply to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wo array variables may refer to same arr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s may be garbage collected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 variables may be set to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rrays are passed by reference to method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854-9C79-4D2D-80A7-609AC5DD6FA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 of two array variables pointing to same array objec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3657600"/>
            <a:ext cx="7862760" cy="14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200-1790-45C7-8EA0-E1E01A4D38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486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2: Two variables can refer to the same array objec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554560" cy="26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EB3-763A-4B27-8EBE-97450071809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be declared, instantiated, and initialized using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izer li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7729560" cy="270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4191120"/>
            <a:ext cx="7693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contain collections of similar it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Primitive or reference type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set, the size of an array is fix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E2E-691D-408C-A61A-3AF5113B410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claring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981080" y="2895480"/>
            <a:ext cx="4983120" cy="34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DBE-AEA0-4346-B9B5-DBF828B4EE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programs that handle collections of similar ite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e array variables and instantiate array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ipulate arrays with loops, including the 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94F-B410-4AD7-861D-2AB43F5EB3B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n array is instantiated, it is filled with default valu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pplication might not fill all ce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ysical siz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maximum number of elements that an array can co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gical siz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actual number of elements stored in an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B21-B18D-40BB-B968-B28E77C145C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ork with arrays that are not full, the programmer must track the logical array siz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Declare an integer counter that will always indicate the number of elements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Every time an element is added or removed, adjust the counter accordingl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counter indicates the logical size of the array and the next open position in the arra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832-0AC5-4DFF-A479-FE1077039CB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king with Arrays That Are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t Full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ng an array that is not ful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95280" y="2895480"/>
            <a:ext cx="66294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4800600"/>
            <a:ext cx="769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ng an el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895480" y="5334120"/>
            <a:ext cx="282420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39A-A2B0-4BA9-8764-7295B5F1AF3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llel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or more arrays of the same size that store complementary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 one array stores first names and a second stores corresponding 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640080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D32-D02B-456E-9FBE-9EDA082FD6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discussed so far i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e-dimens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ized as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items or val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may have multiple dimens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s can be visualized a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abl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ith rows and colum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“array of array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ach element of a one-dimensional array contains another arra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8C2-3171-4C2F-AC1A-990E01CEE9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51055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3: Two-dimensional array with four rows and five column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486400" cy="19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6DB-E318-4B41-8C2A-17A87218B5E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ing and instantiating a two-dimensional array 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371600" y="3886200"/>
            <a:ext cx="640080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B05-FAE3-46C5-95AE-B7228368C80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541008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4: Another way of visualizing a two-dimensional array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576760" cy="29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CC1-FC2B-4656-8A87-F26616B748B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oping through a two-dimensional array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28800" y="3733920"/>
            <a:ext cx="54864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A8C-3E94-4F63-AADB-5B62C4847AE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wo-Dimensional Array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r lists for two-dimensional array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828800" y="3124080"/>
            <a:ext cx="5486400" cy="1219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14400" y="43434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ows in a two-dimensional array may have varying length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gged arr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D1B-382A-445E-A0B4-8842B3BAA76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methods to manipulate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parallel arrays and two-dimensional arr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DAC-4672-4DA6-A12F-496C73D4ABD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d in Java 5.0 to simplify loops in which each element in an array is acces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rom the first index to the las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rees programmer from having to manage and use loop counte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5410080"/>
            <a:ext cx="6400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696-C135-49F2-BED3-157C97237C0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9436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xample 9.3: Testing the enhanced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loop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14600" y="2438280"/>
            <a:ext cx="4114440" cy="3428640"/>
            <a:chOff x="2514600" y="2438280"/>
            <a:chExt cx="4114440" cy="3428640"/>
          </a:xfrm>
        </p:grpSpPr>
        <p:pic>
          <p:nvPicPr>
            <p:cNvPr id="184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2514600" y="2438280"/>
              <a:ext cx="4114440" cy="14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2514600" y="3859200"/>
              <a:ext cx="4114440" cy="200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8A8B-179D-4AE3-9AEA-61C2F97A724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ing the Enhanced </a:t>
            </a:r>
            <a:r>
              <a:rPr b="1" lang="en-US" sz="3600" spc="-1" strike="noStrike">
                <a:solidFill>
                  <a:srgbClr val="006666"/>
                </a:solidFill>
                <a:latin typeface="Courier New"/>
              </a:rPr>
              <a:t>fo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Loop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not be use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Move through an array in reverse, from the last position to the first position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ssign elements to positions in an arra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rack the index position of the current element in an arra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ccess any element other than the current element on each pas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26F-0955-4175-A71E-AD1A6FBF0D8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arrays are objects, they are passed by reference to metho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e method manipulates the array itself, not a copy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hanges to array made in the method exist after method is complete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thod may create a new array and return i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087-98CD-4DC2-A083-2239EDAFD18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search for a value in an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114800" cy="12956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4191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sum the rows in a 2-D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4724280"/>
            <a:ext cx="4114800" cy="16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DD8-6C36-4EA2-A418-135F76D3FF1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and Method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2819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 to make a copy of an array and return i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62520" y="2819520"/>
            <a:ext cx="38098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1F6-EF2C-4776-A9E8-26BF388C933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rays of Obje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can hold references to objects of any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When instantiated, each cell has a value of 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828800" y="4952880"/>
            <a:ext cx="54864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933-3339-4003-9674-1290C7E4F01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UML diagrams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: Industry standard for designing and representing a set of interacting classes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Structure charts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May be used to depict relationships between classes and the order of methods called in a program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cedural decomposition:</a:t>
            </a: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 Technique of dividing a problem into sub-problems and correlating each with a method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AC2-0750-49E3-B487-11772102A2C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55627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6: UML diagram of the classes in the student test scores progra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94360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5F1-5007-4D4C-88E9-570A79DE9B4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8800" y="839160"/>
            <a:ext cx="7770600" cy="10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Design Technique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525780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7: Structure chart for the methods of class </a:t>
            </a:r>
            <a:r>
              <a:rPr b="0" lang="en-US" sz="2200" spc="-1" strike="noStrike">
                <a:solidFill>
                  <a:srgbClr val="003366"/>
                </a:solidFill>
                <a:latin typeface="Courier New"/>
              </a:rPr>
              <a:t>TestScoresView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594360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2C-6DE3-4FC0-B1A5-29EB9D960E4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r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ical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DA4-A00A-4B1D-970C-C105F653D08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reate an arra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lare an array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tantiate an array object and assign it to the array varia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ize the cells in the array with data, as appropria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creating a new array object, try to determine an accurate estimate of the number of cells requ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ED1-24AD-4EA2-8091-23464BC58CE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 that array variables ar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til they are assigned array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void index out-of-bounds errors, remember that the index of an array cell ranges from 0 (the first position) to the length of the array minus 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ccess the last cell in an array, use the expression </a:t>
            </a:r>
            <a:r>
              <a:rPr b="0" i="1" lang="en-US" sz="2800" spc="-1" strike="noStrike">
                <a:solidFill>
                  <a:srgbClr val="003366"/>
                </a:solidFill>
                <a:latin typeface="Courier New"/>
              </a:rPr>
              <a:t>&lt;array&gt;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.length – 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864-C04B-4590-AA99-F41D374791F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, Testing, and Debugging Hints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void having multiple array variables refer to the same arr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copy the contents of one array to another, do not us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A = B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tead, write a copy method and use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A = arrayCopy(B)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n array is not ful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rack the current number of element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void index out-of-bounds error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407-71EA-4511-A121-654BAECB957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collections of similar items or elements ordered by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useful when a program needs to manipulate many similar items, such as a group of students or a number of test sc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rays are objec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t be instanti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be referred to by more than one vari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FD2-78D3-4BD6-8AF7-173A1C344DA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rray can be passed to a method as a parameter and returned as a valu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llel arrays are useful for organizing information with corresponding el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s store values in a row-and-column arrang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9B6-9BB5-43C7-9093-CD24E699984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nhanced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loop is a simplified version of a loop for visiting each element of an array from the first position to the last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F1B-7F27-4089-9BE7-A214B0EAE872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-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allel arra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hysical s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dural decom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CF7-A46E-4C20-BAFD-A759A03E68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ocabulary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gged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ge-bound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 ch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bscrip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-dimensional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1E3-F9A8-4808-8D3F-AE87599DCF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ual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86728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igure 9-1: Three arrays, each containing five element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678204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F06-0CA0-4543-A963-45DBD96569C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ual Overview (cont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emen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items in an ar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array elements have the same data ty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an be primitive or reference typ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has a fix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siz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 array element has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scrip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ppear within square brackets (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[]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2E2-98FF-483E-96C2-45B4B12F855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mple Array Manipu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laring an array of 500 integ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int[] abc = new int[500];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 for referring to an array elemen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array name&gt;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[</a:t>
            </a: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index&gt;</a:t>
            </a:r>
            <a:r>
              <a:rPr b="0" lang="en-US" sz="2500" spc="-1" strike="noStrike">
                <a:solidFill>
                  <a:srgbClr val="003366"/>
                </a:solidFill>
                <a:latin typeface="Courier New"/>
              </a:rPr>
              <a:t>]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66"/>
                </a:solidFill>
                <a:latin typeface="Courier New"/>
              </a:rPr>
              <a:t>&lt;index&gt;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must be between 0 and the array’s length minus 1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bscript operator: </a:t>
            </a:r>
            <a:r>
              <a:rPr b="0" lang="en-US" sz="2800" spc="-1" strike="noStrike">
                <a:solidFill>
                  <a:srgbClr val="003366"/>
                </a:solidFill>
                <a:latin typeface="Courier New"/>
              </a:rPr>
              <a:t>[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undamentals of Java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211-4B85-46F6-A63B-C98246015B6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1:47:29Z</dcterms:created>
  <dc:creator/>
  <dc:description/>
  <dc:language>en-US</dc:language>
  <cp:lastModifiedBy>Custom Editorial Productions</cp:lastModifiedBy>
  <dcterms:modified xsi:type="dcterms:W3CDTF">2006-01-20T18:42:29Z</dcterms:modified>
  <cp:revision>88</cp:revision>
  <dc:subject/>
  <dc:title>Chapter 9 Introduction to Arrays</dc:title>
</cp:coreProperties>
</file>