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B508-FF18-4D0A-BB83-869353DED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98A5-09DD-46A5-B74E-7A45F9BAA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47B6-9B8E-4687-9C73-801E7ECE4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DC66-8789-49B8-AF41-8BE71F0CD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AD1E-515F-46D6-98B3-2B2CBD5E2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E7998-BC24-4213-BF7E-BB364ACAC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D0D4C-FC21-43B8-B08F-96E884C0E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72463-85C3-4E0A-A4CE-7067E3E82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3F171-A291-4B61-96CF-15BE64A9B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820AC-0964-4A10-AA85-4D3782FD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ECFCE-DB79-4F4E-83D4-B8FDBA4C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E97C6-4903-46D8-A158-19DBE262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A889D-B11E-4BB2-BB41-8F56DA2E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E7C2B-D612-409E-992A-A4C133EA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8DFEC-E570-481C-B147-7C821723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8EE74-74F7-46D8-B66A-04F771E8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6CBF5-BEA3-4E02-933F-BE30A8170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46B72-E382-44CA-8577-F3080ABA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13BF8-B937-438D-A6A7-AE798FFA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C1F88-C152-460B-BB16-3BB8EDED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67D65-6DF8-4B86-B7F4-42974FAE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E4758-E656-435B-83CA-D8BC9302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F9EB7-ED46-4691-BAFC-87035A28A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31D1E-6EF0-47FA-BAE2-B086F9FBA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2D967-99E1-4F8B-BFE3-83DB50552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68210-8705-4EB1-B014-C2DF79B2D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2950E-B4AA-4662-A3EA-3B0CB1D80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B408E-3CB4-4139-BDD8-C56F31015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03E7E-A261-4A3A-988B-A71C689A4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273A-107A-4705-84D6-D5E2EB13415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Linux+ Guide to Linux Certification, Second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13B5-E03D-44BA-A9D5-8BA4E9D546C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An Introduction to Programming with C++</a:t>
            </a:r>
            <a:br>
              <a:rPr sz="4400"/>
            </a:b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Fif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1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An Introduction to Programming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B0A2-90B3-4A3A-838A-DF761A32529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trol Structur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s are written using three basic structur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Used in every program you writ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peti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Used in most programs you writ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Used in most programs you writ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alled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control structure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r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logic structur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02C5-477C-481E-AB05-1A479F8F03A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Sequence Structu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equence structur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rects the computer to process the program instructions, one after another, in the order listed in the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Sequence Structur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1713-16F9-423B-AE2D-E1747644BD8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866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3335-5757-4BE6-BF85-8A8D5EA80EE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Repetition Structu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epetition structure: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rects computer to repeat one or more instructions until some condition is me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so called a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loop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iter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Repetition Structur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5D0F-1E7F-4165-B088-454B4694FA8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057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1F9C-357B-4CE9-A191-15F30F7F518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Repetition Structur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at could you do if you don’t know precisely how many steps separate Rob from the chair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Repetition Structur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D9D9-B585-4134-97CC-FBE2AA67BA0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276200" y="2209680"/>
            <a:ext cx="680112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ABF0-AD2D-4FD2-BE76-DC1144F5A7F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Selection Structu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election structure: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kes a decision and then takes an appropriate action based on that decis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so called the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decision structu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Selection Structur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8995-0877-4B85-9081-1DEAB53B9AC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5042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886A-02BA-448D-97FA-E2A3AF80E41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Selection Structur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793880" y="1905120"/>
            <a:ext cx="574992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4866-EA78-420A-B1ED-B4BF6A8E700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plain the history of programming languag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plain the sequence, selection, and repetition structur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rite simple algorithms using the sequence, selection, and repetition structur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B741-96A7-4C65-8988-C01B01997ED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s: step-by-step instructions that tell a computer how to perform a tas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mers use programming languages to communicate with the comput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rst programming languages were machine languag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igh-level languages can be used to create procedure-oriented programs or object-oriented progra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lgorithm: step-by-step instructions that accomplish a task (not written in a programming language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gorithms contain one or more of the following control structures: sequence, selection, and repeti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F73B-D357-4094-BDC2-D5DC3A41CA4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quence structure: process the instructions, one after another, in the order list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petition structure: repeat one or more instructions until some condition is me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lection structure: directs the computer to make a decision, and then to select an appropriate action based on that decis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53F8-A73E-472C-9D9C-F312463A6FE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pplication Lesson: Using the Control Structur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.1: Stop and Analyz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.2: salespeople selling more than $2,000 receive 3.5% bonus; all others receive 3% bonu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.3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2454120" y="4273560"/>
            <a:ext cx="4238640" cy="2114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2"/>
          <a:stretch/>
        </p:blipFill>
        <p:spPr>
          <a:xfrm>
            <a:off x="2163600" y="2190600"/>
            <a:ext cx="48150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3BE5-C1E6-4093-BD7B-C022D15BFE9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ept Less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m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Brief History of Programming Languag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trol Structur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CACD-9F86-426F-A0A3-83CC51CA3E0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grammer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rogram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re the directions given to comput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rogrammer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re the people who write computer progra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Applications programmers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rite, maintain, and/or customize programs that handle a specific tas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Systems programmers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rite and maintain programs that help the computer carry out its basic operating func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380D-3424-4758-8D3F-45AC0B9C864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 Brief History of Programming Languag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rogramming language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re the languages used to communicate with a comput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.g., C++, C#, Java, Visual Basic, Perl, C, COBO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yp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Machine languag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ssembly languag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High-level languag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7E62-8241-4678-9F14-4006490BC34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chine Languag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first programmers had to write the program instructions using only combinations of 0s and 1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.g.,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00101 10001 10000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tructions written in 0s and 1s are called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machine languag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r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machine cod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ach type of machine has its own languag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chine languages are the only way to communicate directly with the comput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ming in machine language is tedious and error-prone; requires highly trained programm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57D8-C8E6-4B28-AF42-2B3616CB482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ssembly Languag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Assembly language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mplify programmer’s jo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an use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mnemonic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tead of 0s and 1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.g.,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ADD bx, ax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ssembly programs require an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assembler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to convert instructions into machine cod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asier to write programs in assembly languag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t still tedious and requires highly trained program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B48A-E5D7-49C0-B643-8F07D5AD394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igh-Level Languag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High-level language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allow programmer to use English-like instru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.g.,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grossPay = hours * rat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igh-level languages are more machine-independ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rograms written in a high-level language can be used on many different types of computer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Compiler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convert the instructions into 0s and 1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terpreter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translate the program line by line as the program is runn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8E61-B851-47DF-AB33-7DFB5649379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igh-Level Languag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writing a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rocedure-oriented program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, the programmer concentrates on the major tasks that the program needs to perfor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amples: COBOL, BASIC, C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object-oriented program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quires programmer to focus on the objects that the program can use to accomplish its goa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amples: C++, Visual Basic, Java, C#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09-08-31T11:23:15Z</dcterms:modified>
  <cp:revision>478</cp:revision>
  <dc:subject/>
  <dc:title>Chapter 1</dc:title>
</cp:coreProperties>
</file>