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2020D-ECB1-4393-8A11-3E00DEF804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FD011-DE2F-4C24-8D6B-E7B133C51F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3D2F8-A0A8-4F0C-ADDE-ABCFBBDCAB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93EE1-06E0-4AB5-9C38-B37B876267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97E4B-0ED2-4858-8D93-948D8B76FB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C5174-1821-4DE4-B877-2D8D564D37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CFF13-B882-4342-ACDD-0E64A4C67F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DEBF4-F4FA-4EE9-8A96-EC10CAC90D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C65EE-3955-42F9-9823-0932C68DD6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F47FB3-BA47-40FA-9178-74266E316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DAD1C3-B055-4D04-ADAE-2C82B51B0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054DB8-15FB-4405-A2FC-2F0101A02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A7A19A-3776-4F1B-A0E1-27D88F7CD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27CFFB-7532-490C-9719-5D351DE6E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325E8F-4648-4055-9832-BE9184EA7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69903E-AF91-48C4-919C-A1046D0F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3CE71-E6F9-4579-B80A-02FB6872FB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9949D2-2272-4796-B635-11D6D195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7D1BB8-F360-4419-B457-D0F7482C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C89FC1-ADC4-48C4-B68E-2B123424E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5F2360-0380-4066-A203-2F86B7AD3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7B7E4C-F019-4601-8E39-C591887A2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FE1DE-9FE1-4EC2-B857-B2EF1FD7AC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C3EBC-6BB4-4B80-BBF9-920A2E938C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5A0C8-449E-46C7-A070-2C38F2DBFA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82A17-E1C8-4E73-98D2-E55C5C25B4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1166D-A3B7-416D-AFAD-80C10BF1C3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3D3AA-345A-4080-9933-3DE28943DE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40448-BBA3-4629-9E1A-702D8E9AE9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520" y="6324120"/>
            <a:ext cx="58672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324120"/>
            <a:ext cx="2057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75292-4556-4901-8711-0EC8A1E4BC88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Linux+ Guide to Linux Certification, Second Ed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An Introduction to Programming with C++, Fifth Ed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B65F0-5457-4222-9684-3E3DA19480E0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144792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2222"/>
                </a:solidFill>
                <a:latin typeface="Arial"/>
              </a:rPr>
              <a:t>An Introduction to Programming with C++</a:t>
            </a:r>
            <a:br>
              <a:rPr sz="4400"/>
            </a:br>
            <a:r>
              <a:rPr b="0" i="1" lang="en-US" sz="3200" spc="-1" strike="noStrike">
                <a:solidFill>
                  <a:srgbClr val="222222"/>
                </a:solidFill>
                <a:latin typeface="Arial"/>
              </a:rPr>
              <a:t>Fifth Edition</a:t>
            </a:r>
            <a:endParaRPr b="0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09120" y="4419360"/>
            <a:ext cx="80773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222222"/>
                </a:solidFill>
                <a:latin typeface="Arial"/>
              </a:rPr>
              <a:t>Chapter 1</a:t>
            </a:r>
            <a:endParaRPr b="0" lang="en-US" sz="3400" spc="-1" strike="noStrike">
              <a:solidFill>
                <a:srgbClr val="222222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222222"/>
                </a:solidFill>
                <a:latin typeface="Arial"/>
              </a:rPr>
              <a:t>An Introduction to Programming</a:t>
            </a:r>
            <a:endParaRPr b="0" lang="en-US" sz="3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775D6-AB15-4DCD-940E-66DA25C52200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ntrol Structur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rograms are written using three basic structur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equenc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Used in every program you write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epetit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Used in most programs you write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elect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Used in most programs you write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alled 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control structures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or 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logic structur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ABF77-7AF0-479C-B182-EA7B586028C6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he Sequence Structur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e 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sequence structure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directs the computer to process the program instructions, one after another, in the order listed in the program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he Sequence Structure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1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258A4-54CB-43D8-B149-5EB265ED5DDE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7086600" cy="34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AD501-49FE-4B53-B36E-19A3D09807B3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he Repetition Structur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Repetition structure: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directs computer to repeat one or more instructions until some condition is me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lso called a </a:t>
            </a: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loop 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iterat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he Repetition Structure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9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7F638-4B23-4F20-961A-92FC15ED4BDA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6705720" cy="40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F2DD5-7B3F-4813-9001-AC15E35EEE7A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he Repetition Structure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What could you do if you don’t know precisely how many steps separate Rob from the chair?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he Repetition Structure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7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6C2D4-4E0E-446B-BB00-D7B68A0B44CC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1276200" y="2209680"/>
            <a:ext cx="6801120" cy="33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41915-38F8-4F04-8B06-AB1A6556D8E0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he Selection Structur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Selection structure: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makes a decision and then takes an appropriate action based on that decis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lso called the </a:t>
            </a: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decision structur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he Selection Structure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5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E0D0F-1F17-4CC0-BCF0-C6BACCD5DDE1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914400" y="2057400"/>
            <a:ext cx="750420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2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B12BE-D904-477D-8562-F84B986F1CF9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he Selection Structure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1"/>
          <a:stretch/>
        </p:blipFill>
        <p:spPr>
          <a:xfrm>
            <a:off x="1793880" y="1905120"/>
            <a:ext cx="5749920" cy="40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463E3-4946-47AF-B7B9-5FFBC0605832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Objectiv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xplain the history of programming languag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xplain the sequence, selection, and repetition structur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Write simple algorithms using the sequence, selection, and repetition structur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2C918-681C-4281-84BA-7C0D84894B5E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rograms: step-by-step instructions that tell a computer how to perform a task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rogrammers use programming languages to communicate with the compute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First programming languages were machine languag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High-level languages can be used to create procedure-oriented programs or object-oriented program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lgorithm: step-by-step instructions that accomplish a task (not written in a programming language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lgorithms contain one or more of the following control structures: sequence, selection, and repetit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3E8D2-84F0-49E9-B319-D91860D75DEF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ummary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quence structure: process the instructions, one after another, in the order listed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Repetition structure: repeat one or more instructions until some condition is me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lection structure: directs the computer to make a decision, and then to select an appropriate action based on that decis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262E0-B234-40C5-B824-E45A24F0CC02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Application Lesson: Using the Control Structur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Lab 1.1: Stop and Analyz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Lab 1.2: salespeople selling more than $2,000 receive 3.5% bonus; all others receive 3% bonu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Lab 1.3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174" name="Picture 5" descr=""/>
          <p:cNvPicPr/>
          <p:nvPr/>
        </p:nvPicPr>
        <p:blipFill>
          <a:blip r:embed="rId1"/>
          <a:stretch/>
        </p:blipFill>
        <p:spPr>
          <a:xfrm>
            <a:off x="2454120" y="4273560"/>
            <a:ext cx="4238640" cy="2114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"/>
          <p:cNvPicPr/>
          <p:nvPr/>
        </p:nvPicPr>
        <p:blipFill>
          <a:blip r:embed="rId2"/>
          <a:stretch/>
        </p:blipFill>
        <p:spPr>
          <a:xfrm>
            <a:off x="2163600" y="2190600"/>
            <a:ext cx="481500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85D1F-9AF4-4AE6-A91D-081F8C946E16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ncept Lesson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rogrammer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 Brief History of Programming Languag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ontrol Structur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ummar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0717A-A393-47E9-B666-1C5EAD9428AA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rogrammer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Programs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re the directions given to computer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Programmers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re the people who write computer program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Applications programmers 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write, maintain, and/or customize programs that handle a specific task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Systems programmers 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write and maintain programs that help the computer carry out its basic operating function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FCDD4-3A65-4B94-8AB7-8BFD0B65C1C2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A Brief History of Programming Languag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Programming languages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re the languages used to communicate with a compute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.g., C++, C#, Java, Visual Basic, Perl, C, COBOL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yp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Machine languages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Assembly languages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High-level languages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1F7C5-9940-4E50-9693-5650BE263B0F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achine Languag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e first programmers had to write the program instructions using only combinations of 0s and 1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.g., </a:t>
            </a:r>
            <a:r>
              <a:rPr b="0" lang="en-US" sz="2400" spc="-1" strike="noStrike">
                <a:solidFill>
                  <a:srgbClr val="222222"/>
                </a:solidFill>
                <a:latin typeface="Courier New"/>
              </a:rPr>
              <a:t>00101 10001 10000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structions written in 0s and 1s are called 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machine language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or 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machine cod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ach type of machine has its own languag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Machine languages are the only way to communicate directly with the compute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rogramming in machine language is tedious and error-prone; requires highly trained programmer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F528E-3B81-4415-A3ED-9803AF82FE27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Assembly Languag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Assembly languages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mplify programmer’s job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an use 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mnemonics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stead of 0s and 1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.g., </a:t>
            </a:r>
            <a:r>
              <a:rPr b="0" lang="en-US" sz="2400" spc="-1" strike="noStrike">
                <a:solidFill>
                  <a:srgbClr val="222222"/>
                </a:solidFill>
                <a:latin typeface="Courier New"/>
              </a:rPr>
              <a:t>ADD bx, ax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ssembly programs require an 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assembler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 to convert instructions into machine cod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asier to write programs in assembly languag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But still tedious and requires highly trained programmer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0D308-76C8-4739-919D-9F4E92F1AA79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High-Level Languag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High-level languages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 allow programmer to use English-like instruction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.g., </a:t>
            </a:r>
            <a:r>
              <a:rPr b="0" lang="en-US" sz="2400" spc="-1" strike="noStrike">
                <a:solidFill>
                  <a:srgbClr val="222222"/>
                </a:solidFill>
                <a:latin typeface="Courier New"/>
              </a:rPr>
              <a:t>grossPay = hours * rat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High-level languages are more machine-independen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Programs written in a high-level language can be used on many different types of computers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Compilers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 convert the instructions into 0s and 1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Interpreters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 translate the program line by line as the program is running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F5C0C-202D-475C-83AC-A747EEBC02F8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High-Level Language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When writing a 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procedure-oriented program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, the programmer concentrates on the major tasks that the program needs to perform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xamples: COBOL, BASIC, C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n 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object-oriented program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requires programmer to focus on the objects that the program can use to accomplish its goa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xamples: C++, Visual Basic, Java, C#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7T23:29:22Z</dcterms:created>
  <dc:creator/>
  <dc:description/>
  <dc:language>en-US</dc:language>
  <cp:lastModifiedBy/>
  <dcterms:modified xsi:type="dcterms:W3CDTF">2009-08-31T11:23:15Z</dcterms:modified>
  <cp:revision>478</cp:revision>
  <dc:subject/>
  <dc:title>Chapter 1</dc:title>
</cp:coreProperties>
</file>