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1.wmf" ContentType="image/x-wmf"/>
  <Override PartName="/ppt/media/image46.png" ContentType="image/png"/>
  <Override PartName="/ppt/media/image34.wmf" ContentType="image/x-wmf"/>
  <Override PartName="/ppt/media/image49.png" ContentType="image/png"/>
  <Override PartName="/ppt/media/image37.wmf" ContentType="image/x-wmf"/>
  <Override PartName="/ppt/media/image43.png" ContentType="image/png"/>
  <Override PartName="/ppt/media/image44.wmf" ContentType="image/x-wmf"/>
  <Override PartName="/ppt/media/image33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5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2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BC17-9985-4E3F-882A-D5F6A5EF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3B0-34DA-48F8-9B9D-ACEC7F4E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09A-5DF0-4DC4-A0E6-AB2DF1B9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0E79-4BF2-4B81-8183-DB992E164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E19D-168D-417D-B757-90C3C7F3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F2A-BFFF-43D2-8A77-56BD3DA9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2CB-578A-4FC5-952F-7786DB7C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140-BF40-45AA-B035-223A5698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A8B-DBF6-46DF-A2DB-B7421BB8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4C21-63FA-492E-AE32-FFFD4540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A0AC-2895-429A-9B19-C7A45B0C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A03D-C078-4937-9642-877EF82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2DF-A1E2-4449-878D-0D553E9D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33B8-5016-4C10-9112-4EDF346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8D2-18F4-4210-96F9-16DA7E7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618D-FE04-4657-8C3D-4C99BA2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D01-266C-439E-9B54-FE1525FD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D6F2-8C12-4B84-8AD2-3F286FB6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0DF8-8EAA-4E76-81D1-13F7485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7CCD-3085-4721-8FBC-4828816D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F55E-A98B-44C3-A008-FD59DDE4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C68C-DD00-40AB-9E4D-D3B507C9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AA69-5746-420E-88EF-2FE671FD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BC62-C860-4FE5-B7BD-453C99A3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3510-31B2-471F-8C66-1EF04E1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F47E-E1BD-4A27-8C77-51CBBE4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E10E-62B1-453A-9D95-4F84BF7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956-9E06-452E-B6FB-FDCEF198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CBFE-C4E1-4004-B71F-8CE6C5A5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FF4E-BD07-4719-A44A-3C108EDD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A1ED-A903-4B3C-8B93-96297D4E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9545-5233-4D0E-A92C-17FA4641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41750-FE8C-4AAD-8E3C-302A8B0B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25DE-CF11-4403-91D5-26DBED07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C7EA-C21E-46B4-8011-B22A7703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19B-5A41-4FB3-80B3-3C49187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5DE-16F3-4F31-AD5B-F4F1BEB7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3A1F-3C77-4EE2-ABFA-52C0BF3E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C77-EC6E-404E-9132-7298673A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259-D9B3-494F-A102-2D99B27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07D-F060-488A-ABB0-53A55F99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098-098E-4412-AF88-B1966D5E32B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Linux+ Guide to Linux Certification, Second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301-2DBA-45D9-961E-9BF385BB8C8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1155-9D61-4434-8B12-C56138C8C3F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026" descr=""/>
          <p:cNvPicPr/>
          <p:nvPr/>
        </p:nvPicPr>
        <p:blipFill>
          <a:blip r:embed="rId1"/>
          <a:stretch/>
        </p:blipFill>
        <p:spPr>
          <a:xfrm>
            <a:off x="542880" y="1444680"/>
            <a:ext cx="8315280" cy="2371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Book Antiqua"/>
              </a:rPr>
              <a:t>Chapter 2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Book Antiqua"/>
              </a:rPr>
              <a:t>Beginning the Problem-Solving Proces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e a problem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goal of solving i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Outpu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items needed to achieve that go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Inpu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ways search first for the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761C-BD94-420A-9245-C143C5B7E89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345960" y="2286000"/>
            <a:ext cx="849312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E6D8-2237-446D-A5CE-A0C973FD9FE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a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PO chart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organize and summarize the results of a problem analy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P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, Processing, and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1341-8FE7-4D24-8B01-103BEFB2D5F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792000" y="2438280"/>
            <a:ext cx="7666200" cy="16765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CB4-FF2E-46D2-9E23-E0AE29BFB3B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81" name="Content Placeholder 5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229520" cy="182412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995-362E-4CB7-8E20-3FEB6162956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, reduce the amount of information you need to consider in your analysi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B333-EC2A-4309-A415-A94F676B64F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1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se than having too much information is not having enough information to solve proble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22D8-7E6B-4401-9EE7-27603FC52D6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838080" y="3200400"/>
            <a:ext cx="7619760" cy="1599840"/>
            <a:chOff x="838080" y="3200400"/>
            <a:chExt cx="7619760" cy="159984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838080" y="3200400"/>
              <a:ext cx="748800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6"/>
            <p:cNvSpPr/>
            <p:nvPr/>
          </p:nvSpPr>
          <p:spPr>
            <a:xfrm>
              <a:off x="8288640" y="3353400"/>
              <a:ext cx="169200" cy="88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tinguish between information that is missing and information that is implied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9EDC-E59E-472B-A512-B1D97C90ACC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066680" y="3276720"/>
            <a:ext cx="7162560" cy="1371240"/>
            <a:chOff x="1066680" y="3276720"/>
            <a:chExt cx="7162560" cy="1371240"/>
          </a:xfrm>
        </p:grpSpPr>
        <p:pic>
          <p:nvPicPr>
            <p:cNvPr id="201" name="Picture 4" descr=""/>
            <p:cNvPicPr/>
            <p:nvPr/>
          </p:nvPicPr>
          <p:blipFill>
            <a:blip r:embed="rId2"/>
            <a:stretch/>
          </p:blipFill>
          <p:spPr>
            <a:xfrm>
              <a:off x="1066680" y="3276720"/>
              <a:ext cx="712584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"/>
            <p:cNvSpPr/>
            <p:nvPr/>
          </p:nvSpPr>
          <p:spPr>
            <a:xfrm>
              <a:off x="8148960" y="3314520"/>
              <a:ext cx="80280" cy="9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orithm: set of instructions that will transform the problem’s input into its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rd it in the Processing column of the IPO cha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ocessing item: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mediate value used by algorithm when processing input into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seudocod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a tool programmers use to help them plan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ort English state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A0CC-8F14-4CD4-9A7D-7FE4E441B37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E1DC-0E8C-4354-80FC-3A50F929D76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276200" y="2546280"/>
            <a:ext cx="6801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plain the problem-solving process used to create a computer progr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e a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lete an IPO cha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n an algorithm using pseudocode and flowchar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k-check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9D7-66A0-4F5A-9C2A-D2EE144A16B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lowchar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also used to plan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standardized symbo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bols connected with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lowli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al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art/stop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tangle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cess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esents tasks such as calcul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allelogram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/output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esents I/O tas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4A1C-0885-4F81-AADF-BEAAB34E635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6FEB-9DD0-4C76-98BE-0006D0D019C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612800" y="1574640"/>
            <a:ext cx="5994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roblem can have more than one solu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F8DA-223A-4A1A-B73F-2BE867D9027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295280" y="3029040"/>
            <a:ext cx="6747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369D-3F92-44B7-BFB3-BF93128DA6C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262160" y="1523880"/>
            <a:ext cx="6738840" cy="1108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1262160" y="3578400"/>
            <a:ext cx="6738840" cy="2746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219320" y="2793960"/>
            <a:ext cx="6858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specification is almost identical to the one shown earlier in Figure 2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01760" y="30240"/>
            <a:ext cx="8626320" cy="1585800"/>
          </a:xfrm>
          <a:prstGeom prst="rect">
            <a:avLst/>
          </a:prstGeom>
          <a:ln w="0">
            <a:noFill/>
          </a:ln>
        </p:spPr>
      </p:pic>
      <p:sp>
        <p:nvSpPr>
          <p:cNvPr id="231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C3BC-DC45-455C-9799-7D7F4B62D8D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990720" y="1828800"/>
            <a:ext cx="72388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ay use a portion of a previous solution to solve current probl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1262160" y="2475000"/>
            <a:ext cx="6738840" cy="133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1262160" y="3962520"/>
            <a:ext cx="673884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839080" cy="11588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3B8-E3D0-4E26-A1EA-D1BF8CB85A1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1300320" y="1787400"/>
            <a:ext cx="6738840" cy="1057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1295280" y="4809960"/>
            <a:ext cx="6739200" cy="12099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9"/>
          <p:cNvGrpSpPr/>
          <p:nvPr/>
        </p:nvGrpSpPr>
        <p:grpSpPr>
          <a:xfrm>
            <a:off x="1300320" y="3235320"/>
            <a:ext cx="6852960" cy="1197000"/>
            <a:chOff x="1300320" y="3235320"/>
            <a:chExt cx="6852960" cy="1197000"/>
          </a:xfrm>
        </p:grpSpPr>
        <p:pic>
          <p:nvPicPr>
            <p:cNvPr id="242" name="Picture 6" descr=""/>
            <p:cNvPicPr/>
            <p:nvPr/>
          </p:nvPicPr>
          <p:blipFill>
            <a:blip r:embed="rId4"/>
            <a:stretch/>
          </p:blipFill>
          <p:spPr>
            <a:xfrm>
              <a:off x="1300320" y="3235320"/>
              <a:ext cx="673884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8"/>
            <p:cNvSpPr/>
            <p:nvPr/>
          </p:nvSpPr>
          <p:spPr>
            <a:xfrm>
              <a:off x="8001000" y="3276720"/>
              <a:ext cx="15228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201600" y="30240"/>
            <a:ext cx="9021600" cy="15858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65B-FE04-4FF5-A25A-2B18510BAF3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346040" y="1700280"/>
            <a:ext cx="6739200" cy="1171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3"/>
          <a:stretch/>
        </p:blipFill>
        <p:spPr>
          <a:xfrm>
            <a:off x="1295280" y="4824360"/>
            <a:ext cx="6739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8"/>
          <p:cNvGrpSpPr/>
          <p:nvPr/>
        </p:nvGrpSpPr>
        <p:grpSpPr>
          <a:xfrm>
            <a:off x="1295280" y="3224160"/>
            <a:ext cx="6858000" cy="1335240"/>
            <a:chOff x="1295280" y="3224160"/>
            <a:chExt cx="6858000" cy="1335240"/>
          </a:xfrm>
        </p:grpSpPr>
        <p:pic>
          <p:nvPicPr>
            <p:cNvPr id="250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224160"/>
              <a:ext cx="6739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7"/>
            <p:cNvSpPr/>
            <p:nvPr/>
          </p:nvSpPr>
          <p:spPr>
            <a:xfrm>
              <a:off x="8001000" y="3276720"/>
              <a:ext cx="15228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201600" y="30240"/>
            <a:ext cx="9021600" cy="15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alid dat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data that the programmer is expecting the user to en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valid dat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data that he or she is not expecting the user to en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should test an algorithm with invalid da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rs may make mistakes when entering da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EA75-DB4C-48BF-A17A-1EDDF82161E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7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52D1-5CD5-400D-9A1A-A038EC93C97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738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7"/>
          <p:cNvGrpSpPr/>
          <p:nvPr/>
        </p:nvGrpSpPr>
        <p:grpSpPr>
          <a:xfrm>
            <a:off x="1371600" y="3352680"/>
            <a:ext cx="6858000" cy="2772000"/>
            <a:chOff x="1371600" y="3352680"/>
            <a:chExt cx="6858000" cy="2772000"/>
          </a:xfrm>
        </p:grpSpPr>
        <p:pic>
          <p:nvPicPr>
            <p:cNvPr id="261" name="Picture 5" descr=""/>
            <p:cNvPicPr/>
            <p:nvPr/>
          </p:nvPicPr>
          <p:blipFill>
            <a:blip r:embed="rId3"/>
            <a:stretch/>
          </p:blipFill>
          <p:spPr>
            <a:xfrm>
              <a:off x="1371600" y="3352680"/>
              <a:ext cx="6738840" cy="27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6"/>
            <p:cNvSpPr/>
            <p:nvPr/>
          </p:nvSpPr>
          <p:spPr>
            <a:xfrm>
              <a:off x="8077320" y="3429000"/>
              <a:ext cx="152280" cy="243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planning the algorithm, you desk-check it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4EDA-93AF-4536-B071-C46C7E0515F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7961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ving Everyday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ing Computer Solutions to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ing the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nning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k-Checking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as Mileage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58EF-A620-41BC-B9F7-C2E2B4B9FB9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blem-solving typically involves analyzing the problem, and then planning, reviewing, implementing, evaluating, and modifying (if necessary) the 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ers use tools (IPO charts, pseudocode, flowcharts) to help them analyze problems and develop algorith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analysis, you determine the output and in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planning, you write the steps that will transform the input into the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4CE8-C06D-47D1-90C6-7206F6A1018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the analysis and planning, you desk-check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llow each of the steps in algorithm by han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ding refers to translating the algorithm into a language that the computer can understa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fore writing an algorithm, consider whether you have already solved a similar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D40D-AAEE-4E0E-BEFB-01FDAF5BEC8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44440" y="-281160"/>
            <a:ext cx="8929800" cy="221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1: Stop and Analy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2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a program that the salesclerks can use to calculate and display the required number of ro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3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ogram must now display the number of single and double rolls of wallpap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4: Desk-Check L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5: Debugging L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D87-A1BB-41D0-BB4A-94E1F07729F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his lesson, you will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lore the thought process followed when solving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rn how to use a similar process to create a computer solution to a probl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lled a computer progra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84C-DFC3-423A-94CA-3D359501D02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 step in solving a problem: analyze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g., problem of being hung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xt, you plan, review, implement, evaluate, and modify (if necessary) the 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g., if you are still hung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4FC0-E69E-4C14-856C-7EA21EA047E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010640" cy="372456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EFCE-62F0-48B0-8EEB-D34250AC9B9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F23A-7930-4DF4-9D51-7F3E390AD6C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93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41000" cy="143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3520" y="1905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sis tools: IPO charts, pseudocode, flowchar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esk-chec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and-tra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pencil, paper, and sample data to walk through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de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orithm is called 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ogr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F0C-2346-4A6D-9825-3E7069253E6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410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5016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D6C5-F2B9-4903-9538-4F32783F43D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9-09-15T18:25:55Z</dcterms:modified>
  <cp:revision>506</cp:revision>
  <dc:subject/>
  <dc:title>Chapter 2</dc:title>
</cp:coreProperties>
</file>