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28.wmf" ContentType="image/x-wmf"/>
  <Override PartName="/ppt/media/image10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1.wmf" ContentType="image/x-wmf"/>
  <Override PartName="/ppt/media/image46.png" ContentType="image/png"/>
  <Override PartName="/ppt/media/image34.wmf" ContentType="image/x-wmf"/>
  <Override PartName="/ppt/media/image49.png" ContentType="image/png"/>
  <Override PartName="/ppt/media/image37.wmf" ContentType="image/x-wmf"/>
  <Override PartName="/ppt/media/image43.png" ContentType="image/png"/>
  <Override PartName="/ppt/media/image44.wmf" ContentType="image/x-wmf"/>
  <Override PartName="/ppt/media/image33.wmf" ContentType="image/x-wmf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45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36.wmf" ContentType="image/x-wmf"/>
  <Override PartName="/ppt/media/image38.wmf" ContentType="image/x-wmf"/>
  <Override PartName="/ppt/media/image30.wmf" ContentType="image/x-wmf"/>
  <Override PartName="/ppt/media/image42.wmf" ContentType="image/x-wmf"/>
  <Override PartName="/ppt/media/image39.png" ContentType="image/png"/>
  <Override PartName="/ppt/media/image9.png" ContentType="image/png"/>
  <Override PartName="/ppt/media/image41.wmf" ContentType="image/x-wmf"/>
  <Override PartName="/ppt/media/image8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2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C17C-52C6-4DED-A25D-39E23B267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5828-1EE7-4118-8016-CDACBD654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9B1E-4896-4ADB-8B73-E045D1E56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150D-4CE7-49B0-AFE6-CF818A97F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1960-03A6-472E-9D4D-8568E6C75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D9D-586B-4D30-9AE0-AD6854E0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76A-2B67-40EE-890B-B3321913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074-B4C8-480D-85CF-A5327099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BF1-0F06-4471-AF0D-6E5F37F9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08E9-BE3A-4A66-B3A1-EED134B0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A880-3667-4C02-BA30-A87412DC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2265-C7DC-4943-AAA3-42902766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8325-50C9-468B-A7FF-9C5CE174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B95C-C3AA-4475-B7C2-069628D3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D226-2737-48C6-AD69-C4FC78A7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002B-CFCF-4B64-BA00-20BB306A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53A-7EFB-4CE5-BC80-F87F751E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E682-47C4-4ADD-8D41-231AD435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85AF-6140-49A9-9DAE-AD6944E3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B651-FB5C-44F7-9B73-483E32B3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5C6D-9FAE-45C5-BD80-E77063D7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B97E-CE01-4ABD-B0F3-D841A35F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F9936-21F0-4E2D-B9F8-B807C6B2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AED7C-9F78-4823-80FF-37ADB790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F1519-D9F8-422D-B569-1444F502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69DED-C670-4D31-BB1E-8C0DAFBE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E553D-D610-42C8-89AB-343E58B4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33B5-36A0-4718-9E4E-D88565B7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B654A-7497-4401-85B6-64830821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EA7CA-AE90-4999-8F00-037B0858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458F7-CF7A-4B5E-87AC-D8231C00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C1364-F0CC-4564-B892-2078E362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9F252-D7F2-4B10-AC34-CB803088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A250-EB0E-4254-B7E6-C09CB221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A1338-6F79-4C69-82A6-78663A18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B60-EF5B-4FFD-B61E-6A389FEE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3A3-0D9A-4624-8F3B-D4959789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9E9-4BE3-4939-B066-626BF39E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903-8100-40EB-BD45-7226B96A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3CFD-D4D5-431D-AA2A-AC587161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51C-4586-4338-A150-C9DB0E57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981F-1379-405D-A93E-909F5AF394D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Linux+ Guide to Linux Certification, Second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5132-4B9E-496F-A9AB-4CBF57AA432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671B-CF44-40A8-8A4B-F5005A72FE0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1026" descr=""/>
          <p:cNvPicPr/>
          <p:nvPr/>
        </p:nvPicPr>
        <p:blipFill>
          <a:blip r:embed="rId1"/>
          <a:stretch/>
        </p:blipFill>
        <p:spPr>
          <a:xfrm>
            <a:off x="542880" y="1444680"/>
            <a:ext cx="8315280" cy="2371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Book Antiqua"/>
              </a:rPr>
              <a:t>Chapter 2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Book Antiqua"/>
              </a:rPr>
              <a:t>Beginning the Problem-Solving Proces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alyze a problem to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termine the goal of solving i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Outpu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termine the items needed to achieve that go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Inpu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ways search first for the outp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3BE2-3AAC-4013-A0DC-E3230FD7EB5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345960" y="2286000"/>
            <a:ext cx="8493120" cy="1905120"/>
          </a:xfrm>
          <a:prstGeom prst="rect">
            <a:avLst/>
          </a:prstGeom>
          <a:ln w="0">
            <a:noFill/>
          </a:ln>
        </p:spPr>
      </p:pic>
      <p:sp>
        <p:nvSpPr>
          <p:cNvPr id="170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79D3-522B-4ABE-9EFD-3FBA096FCD46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an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IPO chart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organize and summarize the results of a problem analysi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PO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put, Processing, and Outpu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D7A8-6559-41B3-9A44-3DDF59FA238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792000" y="2438280"/>
            <a:ext cx="7666200" cy="1676520"/>
          </a:xfrm>
          <a:prstGeom prst="rect">
            <a:avLst/>
          </a:prstGeom>
          <a:ln w="0">
            <a:noFill/>
          </a:ln>
        </p:spPr>
      </p:pic>
      <p:sp>
        <p:nvSpPr>
          <p:cNvPr id="178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A586-DC2A-4B81-A52C-83405ED3689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81" name="Content Placeholder 5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7229520" cy="1824120"/>
          </a:xfrm>
          <a:prstGeom prst="rect">
            <a:avLst/>
          </a:prstGeom>
          <a:ln w="0">
            <a:noFill/>
          </a:ln>
        </p:spPr>
      </p:pic>
      <p:sp>
        <p:nvSpPr>
          <p:cNvPr id="182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458D-EC9B-4B65-BC7D-D3405A03BAF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85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rst, reduce the amount of information you need to consider in your analysi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5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EC74-2F6D-4E5C-AF21-F567C7176C7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7691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Title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85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se than having too much information is not having enough information to solve problem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9FA5-8FEF-420E-9B20-C0B0612B3B9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7"/>
          <p:cNvGrpSpPr/>
          <p:nvPr/>
        </p:nvGrpSpPr>
        <p:grpSpPr>
          <a:xfrm>
            <a:off x="838080" y="3200400"/>
            <a:ext cx="7619760" cy="1599840"/>
            <a:chOff x="838080" y="3200400"/>
            <a:chExt cx="7619760" cy="1599840"/>
          </a:xfrm>
        </p:grpSpPr>
        <p:pic>
          <p:nvPicPr>
            <p:cNvPr id="194" name="Picture 5" descr=""/>
            <p:cNvPicPr/>
            <p:nvPr/>
          </p:nvPicPr>
          <p:blipFill>
            <a:blip r:embed="rId2"/>
            <a:stretch/>
          </p:blipFill>
          <p:spPr>
            <a:xfrm>
              <a:off x="838080" y="3200400"/>
              <a:ext cx="7488000" cy="15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6"/>
            <p:cNvSpPr/>
            <p:nvPr/>
          </p:nvSpPr>
          <p:spPr>
            <a:xfrm>
              <a:off x="8288640" y="3353400"/>
              <a:ext cx="169200" cy="88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Rectangle 2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85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tinguish between information that is missing and information that is implied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90F6-D90A-4D0C-A4E6-3B7B928C69F7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Group 6"/>
          <p:cNvGrpSpPr/>
          <p:nvPr/>
        </p:nvGrpSpPr>
        <p:grpSpPr>
          <a:xfrm>
            <a:off x="1066680" y="3276720"/>
            <a:ext cx="7162560" cy="1371240"/>
            <a:chOff x="1066680" y="3276720"/>
            <a:chExt cx="7162560" cy="1371240"/>
          </a:xfrm>
        </p:grpSpPr>
        <p:pic>
          <p:nvPicPr>
            <p:cNvPr id="201" name="Picture 4" descr=""/>
            <p:cNvPicPr/>
            <p:nvPr/>
          </p:nvPicPr>
          <p:blipFill>
            <a:blip r:embed="rId2"/>
            <a:stretch/>
          </p:blipFill>
          <p:spPr>
            <a:xfrm>
              <a:off x="1066680" y="3276720"/>
              <a:ext cx="7125840" cy="13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5"/>
            <p:cNvSpPr/>
            <p:nvPr/>
          </p:nvSpPr>
          <p:spPr>
            <a:xfrm>
              <a:off x="8148960" y="3314520"/>
              <a:ext cx="80280" cy="9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gorithm: set of instructions that will transform the problem’s input into its outp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cord it in the Processing column of the IPO char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Processing item: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ermediate value used by algorithm when processing input into outp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Pseudocode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 a tool programmers use to help them plan an algorith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hort English statemen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3507-CC0F-4EC3-8E5F-F0191211D0C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ectangle 4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85800"/>
          </a:xfrm>
          <a:prstGeom prst="rect">
            <a:avLst/>
          </a:prstGeom>
          <a:ln w="0">
            <a:noFill/>
          </a:ln>
        </p:spPr>
      </p:pic>
      <p:sp>
        <p:nvSpPr>
          <p:cNvPr id="208" name="Footer Placeholder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6FD8-E1E9-4827-B7E4-AF9170033D7C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1276200" y="2546280"/>
            <a:ext cx="68011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plain the problem-solving process used to create a computer progra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alyze a probl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plete an IPO char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lan an algorithm using pseudocode and flowchar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k-check an algorith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D74E-3117-4C19-A5D8-21175260BE1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85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Flowchart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e also used to plan an algorith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e standardized symbo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ymbols connected with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lowlin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val: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tart/stop symb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ctangle: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cess symb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presents tasks such as calcul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rallelogram: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put/output symb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presents I/O tas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DC2A-175C-4C81-933A-A27CD163268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4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85800"/>
          </a:xfrm>
          <a:prstGeom prst="rect">
            <a:avLst/>
          </a:prstGeom>
          <a:ln w="0">
            <a:noFill/>
          </a:ln>
        </p:spPr>
      </p:pic>
      <p:sp>
        <p:nvSpPr>
          <p:cNvPr id="216" name="Footer Placeholder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95F4-0F35-4CB3-934C-39483CCBE43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1612800" y="1574640"/>
            <a:ext cx="59943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2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85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problem can have more than one soluti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07B4-CC98-4131-A99F-89F38D74BD6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1295280" y="3029040"/>
            <a:ext cx="67471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401760" y="268200"/>
            <a:ext cx="8443800" cy="1158840"/>
          </a:xfrm>
          <a:prstGeom prst="rect">
            <a:avLst/>
          </a:prstGeom>
          <a:ln w="0">
            <a:noFill/>
          </a:ln>
        </p:spPr>
      </p:pic>
      <p:sp>
        <p:nvSpPr>
          <p:cNvPr id="225" name="Footer Placeholder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BD62-C6C9-4940-8396-9811A720781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1262160" y="1523880"/>
            <a:ext cx="6738840" cy="1108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3"/>
          <a:stretch/>
        </p:blipFill>
        <p:spPr>
          <a:xfrm>
            <a:off x="1262160" y="3578400"/>
            <a:ext cx="6738840" cy="27460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1219320" y="2793960"/>
            <a:ext cx="685800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specification is almost identical to the one shown earlier in Figure 2-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401760" y="30240"/>
            <a:ext cx="8626320" cy="1585800"/>
          </a:xfrm>
          <a:prstGeom prst="rect">
            <a:avLst/>
          </a:prstGeom>
          <a:ln w="0">
            <a:noFill/>
          </a:ln>
        </p:spPr>
      </p:pic>
      <p:sp>
        <p:nvSpPr>
          <p:cNvPr id="231" name="Footer Placeholder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B82F-E3AE-4957-9A32-3431BB43CA77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990720" y="1828800"/>
            <a:ext cx="723888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may use a portion of a previous solution to solve current probl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1262160" y="2475000"/>
            <a:ext cx="6738840" cy="1334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1262160" y="3962520"/>
            <a:ext cx="673884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839080" cy="1158840"/>
          </a:xfrm>
          <a:prstGeom prst="rect">
            <a:avLst/>
          </a:prstGeom>
          <a:ln w="0">
            <a:noFill/>
          </a:ln>
        </p:spPr>
      </p:pic>
      <p:sp>
        <p:nvSpPr>
          <p:cNvPr id="237" name="Footer Placeholder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6DE2-8391-4CAD-8976-47E166D48DC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1300320" y="1787400"/>
            <a:ext cx="6738840" cy="1057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/>
          <p:cNvPicPr/>
          <p:nvPr/>
        </p:nvPicPr>
        <p:blipFill>
          <a:blip r:embed="rId3"/>
          <a:stretch/>
        </p:blipFill>
        <p:spPr>
          <a:xfrm>
            <a:off x="1295280" y="4809960"/>
            <a:ext cx="6739200" cy="120996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9"/>
          <p:cNvGrpSpPr/>
          <p:nvPr/>
        </p:nvGrpSpPr>
        <p:grpSpPr>
          <a:xfrm>
            <a:off x="1300320" y="3235320"/>
            <a:ext cx="6852960" cy="1197000"/>
            <a:chOff x="1300320" y="3235320"/>
            <a:chExt cx="6852960" cy="1197000"/>
          </a:xfrm>
        </p:grpSpPr>
        <p:pic>
          <p:nvPicPr>
            <p:cNvPr id="242" name="Picture 6" descr=""/>
            <p:cNvPicPr/>
            <p:nvPr/>
          </p:nvPicPr>
          <p:blipFill>
            <a:blip r:embed="rId4"/>
            <a:stretch/>
          </p:blipFill>
          <p:spPr>
            <a:xfrm>
              <a:off x="1300320" y="3235320"/>
              <a:ext cx="673884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8"/>
            <p:cNvSpPr/>
            <p:nvPr/>
          </p:nvSpPr>
          <p:spPr>
            <a:xfrm>
              <a:off x="8001000" y="3276720"/>
              <a:ext cx="152280" cy="83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2" descr=""/>
          <p:cNvPicPr/>
          <p:nvPr/>
        </p:nvPicPr>
        <p:blipFill>
          <a:blip r:embed="rId1"/>
          <a:stretch/>
        </p:blipFill>
        <p:spPr>
          <a:xfrm>
            <a:off x="201600" y="30240"/>
            <a:ext cx="9021600" cy="158580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991F-03F8-453C-BB3B-4A5C31FB6F7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1346040" y="1700280"/>
            <a:ext cx="6739200" cy="1171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3"/>
          <a:stretch/>
        </p:blipFill>
        <p:spPr>
          <a:xfrm>
            <a:off x="1295280" y="4824360"/>
            <a:ext cx="6739200" cy="134784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8"/>
          <p:cNvGrpSpPr/>
          <p:nvPr/>
        </p:nvGrpSpPr>
        <p:grpSpPr>
          <a:xfrm>
            <a:off x="1295280" y="3224160"/>
            <a:ext cx="6858000" cy="1335240"/>
            <a:chOff x="1295280" y="3224160"/>
            <a:chExt cx="6858000" cy="1335240"/>
          </a:xfrm>
        </p:grpSpPr>
        <p:pic>
          <p:nvPicPr>
            <p:cNvPr id="250" name="Picture 5" descr=""/>
            <p:cNvPicPr/>
            <p:nvPr/>
          </p:nvPicPr>
          <p:blipFill>
            <a:blip r:embed="rId4"/>
            <a:stretch/>
          </p:blipFill>
          <p:spPr>
            <a:xfrm>
              <a:off x="1295280" y="3224160"/>
              <a:ext cx="67392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Rectangle 7"/>
            <p:cNvSpPr/>
            <p:nvPr/>
          </p:nvSpPr>
          <p:spPr>
            <a:xfrm>
              <a:off x="8001000" y="3276720"/>
              <a:ext cx="15228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201600" y="30240"/>
            <a:ext cx="9021600" cy="1585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Valid data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 data that the programmer is expecting the user to en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Invalid data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 data that he or she is not expecting the user to en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should test an algorithm with invalid dat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ers may make mistakes when entering dat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C5E3-1C18-4482-9378-22AC8A158DA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57" name="Footer Placeholder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AB6C-93C5-4FE9-A450-7B6AB3CF2B16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67388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7"/>
          <p:cNvGrpSpPr/>
          <p:nvPr/>
        </p:nvGrpSpPr>
        <p:grpSpPr>
          <a:xfrm>
            <a:off x="1371600" y="3352680"/>
            <a:ext cx="6858000" cy="2772000"/>
            <a:chOff x="1371600" y="3352680"/>
            <a:chExt cx="6858000" cy="2772000"/>
          </a:xfrm>
        </p:grpSpPr>
        <p:pic>
          <p:nvPicPr>
            <p:cNvPr id="261" name="Picture 5" descr=""/>
            <p:cNvPicPr/>
            <p:nvPr/>
          </p:nvPicPr>
          <p:blipFill>
            <a:blip r:embed="rId3"/>
            <a:stretch/>
          </p:blipFill>
          <p:spPr>
            <a:xfrm>
              <a:off x="1371600" y="3352680"/>
              <a:ext cx="6738840" cy="27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6"/>
            <p:cNvSpPr/>
            <p:nvPr/>
          </p:nvSpPr>
          <p:spPr>
            <a:xfrm>
              <a:off x="8077320" y="3429000"/>
              <a:ext cx="152280" cy="243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5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fter planning the algorithm, you desk-check it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E91F-6ABD-4B28-870B-D1CF80F9DE6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2"/>
          <a:stretch/>
        </p:blipFill>
        <p:spPr>
          <a:xfrm>
            <a:off x="533520" y="2895480"/>
            <a:ext cx="79610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blem Solv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ving Everyday Proble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ing Computer Solutions to Proble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alyzing the Probl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lanning the Algorith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sk-Checking the Algorith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Gas Mileage Probl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98FE-4FA0-43DA-8CEF-25D2AD6C654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blem-solving typically involves analyzing the problem, and then planning, reviewing, implementing, evaluating, and modifying (if necessary) the 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grammers use tools (IPO charts, pseudocode, flowcharts) to help them analyze problems and develop algorith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uring analysis, you determine the output and inpu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uring planning, you write the steps that will transform the input into the outpu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4561-80E0-4E83-BA26-AFFFAA66C8C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fter the analysis and planning, you desk-check the algorith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llow each of the steps in algorithm by han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ding refers to translating the algorithm into a language that the computer can understa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fore writing an algorithm, consider whether you have already solved a similar probl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96E0-1EFA-455A-8D47-0E8EB3B216F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244440" y="-281160"/>
            <a:ext cx="8929800" cy="2213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b 2.1: Stop and Analyz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b 2.2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reate a program that the salesclerks can use to calculate and display the required number of rol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b 2.3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program must now display the number of single and double rolls of wallpap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b 2.4: Desk-Check Lab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b 2.5: Debugging Lab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B3CE-A611-406B-82DD-2D3D592D9D8E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this lesson, you will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plore the thought process followed when solving proble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earn how to use a similar process to create a computer solution to a probl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alled a computer progra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AAA1-B242-4880-B0F3-26BB6951803E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rst step in solving a problem: analyze 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.g., problem of being hung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xt, you plan, review, implement, evaluate, and modify (if necessary) the sol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.g., if you are still hung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9E88-69FE-483B-97DA-6CAA05857186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7010640" cy="3724560"/>
          </a:xfrm>
          <a:prstGeom prst="rect">
            <a:avLst/>
          </a:prstGeom>
          <a:ln w="0">
            <a:noFill/>
          </a:ln>
        </p:spPr>
      </p:pic>
      <p:sp>
        <p:nvSpPr>
          <p:cNvPr id="150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7C24-9FAE-4C6C-BEEE-DC52230A85A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53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E8A1-7689-4BFF-BF7D-0BAE24086F1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6932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Rectangle 2" descr=""/>
          <p:cNvPicPr/>
          <p:nvPr/>
        </p:nvPicPr>
        <p:blipFill>
          <a:blip r:embed="rId1"/>
          <a:stretch/>
        </p:blipFill>
        <p:spPr>
          <a:xfrm>
            <a:off x="426960" y="103320"/>
            <a:ext cx="8541000" cy="1439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533520" y="1905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alysis tools: IPO charts, pseudocode, flowchar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desk-check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or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hand-trac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pencil, paper, and sample data to walk through algorith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oded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gorithm is called a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progra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0CDD-9719-4ADD-9AB3-F672081B90B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426960" y="103320"/>
            <a:ext cx="8541000" cy="1439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850160" cy="236232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An Introduction to Programming with C++, Fif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A7FE-4242-4B10-8225-BEC4AD113A6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09-09-15T18:25:55Z</dcterms:modified>
  <cp:revision>506</cp:revision>
  <dc:subject/>
  <dc:title>Chapter 2</dc:title>
</cp:coreProperties>
</file>